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43C-A284-4898-8D5A-7DA9835DE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BB75-B7C0-4995-BA95-76E714209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BA2-B88B-4F29-861A-A9BB5ABEC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200D-2A2D-461E-98F8-379D527B3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17ED-C8EE-42FE-B795-4D3DB0AB6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27B-BC37-4D08-B9BE-B40360482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DB3-C0BE-462C-A0C0-085EAC4D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550-D733-4B7A-A230-C0E11FC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F2F1A-8774-44D1-94A2-A4ED7FA8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0B8C-88C1-4E06-989F-CB6E4048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ABDB2-A60D-4436-B15A-DC938C8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470F6-E2A7-4F0E-9F71-21E668F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4B7C5-6A90-450A-9513-93818090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717AA-95ED-4C87-A614-78EEB4F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2BCB3-AB3C-42BB-B30F-C4EBEDB2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E1D4-2289-4B03-9BD7-7A8C2CA0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C601-6995-462C-8CD3-0C80E609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CF8CB-1CEA-4E7D-8731-76C94486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F10-C5F4-4EC1-A5D0-515DD98B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A9F1A-46D2-4BCC-86FB-7B84F76F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71C3F-979B-4C61-909A-FF089033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EA3B-CB7A-422B-9C7D-FF722B6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4346A-A6F2-4AAC-8FE5-2B73FF93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BE1FB-54DF-4E82-9C6F-0193FD2B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B6C7-46C1-44FD-A2CE-D4F4672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E73D7-E902-48AA-B17F-22AC924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38659-EADB-4E1B-81A8-8407237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06062-BAF6-4AA8-9BDF-581F63AD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887A1-08D5-4DA5-92BD-50FA920C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562-DDB0-4770-B265-04ED38FB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359B6-D52C-4387-94C1-92FFE863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26E95-4242-4A45-B193-9C327D22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02CBC-C863-4B31-8011-5F41B9ED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41603-2D39-4FD2-AE9E-B5FAC7F0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3E319-DA8B-4602-ACC2-E1EBD9F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D24E2-647C-4035-9E7D-33728F78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C481D-66C7-4096-88F5-4166B2C0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9940A-FF7F-4A5A-98E1-C2BFF9C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AE2B-3DCE-4F0D-8FC5-02AD576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635C5-736C-413F-8088-DF22FE33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763E-6A23-4570-B52B-9C7C1160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90DF9-0A08-4AEE-BFA8-FEB7265B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46153-93CB-4057-BCD2-F6F16D8B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21D8-48EC-4739-BB7B-9BE3D189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D4C7C-905D-4201-9230-024ED683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CB5C9-3300-468B-9CA1-35950585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F485A-A2D2-4D39-BCA7-1DCBC78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F083F-03BF-4D04-838A-3F5908AE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782FD-8C93-46D6-A248-01496FCC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B27B7-391B-4AA0-AB11-B6612D1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0767D-ED96-4E00-AD16-61C600BE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833C-AE2D-49D3-B717-C857D500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05A72-23A4-4D82-820D-AE6CA3E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9F431-D7B9-432E-8BBC-9654EBA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50F55-9DA6-4374-982E-A6099EC0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21875-71C7-4126-A2C3-9D6563E9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79684-CF21-4592-9035-9AFA3668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361B-5CB9-474F-B6D6-D388C3B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3A8-0C1D-4DEA-80F9-78A90A0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BB5-CC40-431B-9FB9-63BEA57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2E65-12C6-43AB-AA83-B893F5E2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6ED9-FF48-4190-BEED-A0CCB56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11D-A16B-4BB4-B4E9-11FA7CBE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A950-1730-4EB2-9805-5C0A272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DF6-019F-466E-ACCE-F620BD5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E5E1-D20A-4228-8DDB-6111997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31F7-824C-427C-B222-491CA5D9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7D65-7FB6-40AE-8FF2-35685A47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625E-2311-4EBA-8867-BCCA71E9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C55C-F74B-49B8-B9DC-00146DE7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5C0A-7052-4AC7-B419-CEACA264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7108-62A0-4937-81D1-05085F72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C791-3825-4F90-AF9B-6F3731AF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E38-DC30-41F7-9341-E350DE70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EAF6-C005-4457-8E70-1B425DF4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3156-C933-4F82-BF91-66D49D28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AD8F-E10D-43C5-91C1-D19D5C18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9756-F544-449F-9C9E-58BA07D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F321-9013-43FD-BC2C-8FC0779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00E7-84DF-4C17-8945-56E58A23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D35D-596E-49FD-8AD6-6FBCD117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89EC-AF5A-4B31-91DE-AE800BD9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B886-4A40-4D95-8FCC-99C2E5F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B5132-8A7C-49B0-9829-53001F6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4D6-FDA2-401C-9D08-8FF07E25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D09B-F803-4FFF-BC60-34BAD100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DC0A-0450-4BDF-9C44-A0FEA6BF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963A-14A8-47D5-A8F2-3E5626A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225C-B33E-42A5-BA9E-625DE2B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C294-49F0-4BA8-95B6-DA3BE45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EE37-F523-4B86-87DF-CFE519A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7D78-4E2C-45A8-8EF4-54F93FCF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7A4F-318D-4C26-B80A-F5A654E7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82AA-C2B4-4163-832D-E33E3B43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D5B5-4E29-4FA8-A287-8B04AE2B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D45-C268-453C-A467-A16CEDB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3538-0A50-4F38-8769-3E63A95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56B7-54E4-4AFD-AC21-B48A839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2B36-1E6C-4D00-B56F-CCD5FBC6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1F75-5FA1-402A-95FE-A32C32C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B78C-7265-4FD8-92B1-1957B25F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5BDF-06D4-4F5E-BC98-210C7C9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086E-830C-4E66-B2B9-4AD6A4C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3A84-0298-4CFF-8B0F-37DF711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D34C-DE90-48AE-AB3E-C8FAAF7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213CE-51CB-4576-97B7-52A9A590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7B9-87DF-465A-8D84-E22E112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CFA5-669F-4D19-A95D-781E1579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3F690-747A-491F-B7FB-65EF51C4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1804-378D-4DBC-B846-34DE69A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4C4D-8DCE-4DFA-AE7B-BDF49838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284A-4331-4EFB-B8CB-BFC3A19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F4692-3586-40BC-BE32-A14A3AD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D614A-81DF-4CFC-9417-409A10FC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4505-E5D0-400E-B3A8-6F551AB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C9E1-C2EC-49CC-9707-E087D8E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F1EF9-51E9-43B2-95F3-33CE7749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120-ACFB-4F94-9661-0BBA413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2216-B68A-43A2-9F37-4C067BF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FF075-1EB6-41C5-98D7-25D84DD8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13F47-FEB5-4267-A317-3FB6F7D2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D32B3-BD64-4458-8ED7-83130736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5DA7A-DC9F-4275-9A25-461CA77E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45D6-528D-4420-B60F-34E3F2DD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EE67-3048-4054-B268-4BF1D86D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DF91F-947A-436C-BFF3-C96AC0C8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0A7E-CD21-49B8-9626-F5F16C87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651C-B973-45EF-A202-861447B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3A8-7356-4D83-8903-60BDE16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37DED-439E-4171-817F-3D718894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004C0-A3B3-446F-B87A-0E1F1EB0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F8AE-718E-4811-ADA1-A6892416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F4D2-ABAD-4238-A5E6-D56888B7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A33C-D141-466A-A2E7-5A29F2BC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A4972-3AE5-413A-89A4-33E78D57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89724-EEE0-4722-A1EF-0AC891E6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FE56-BB23-48A8-8F8E-FAC05798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860E-DA29-40C0-AE0D-6CFB7727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65CD6-EFDF-4FE7-BF8A-16908DE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F2B-DB89-4B73-A563-D941F1B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78CC-A6DE-42CE-9801-AE68770D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3EF3-49C1-4BB8-AFEE-276417F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CFC7A-FD51-4027-9EC1-9FDECB5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1CEF8-7EBC-4A41-B3FE-8C9712C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F6E63-C80D-4CCC-A6C9-B16585F2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2938-3C83-45B7-990F-C2DDC8B5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F242-1233-4301-B027-45F2A288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BB0A3-45E0-43BB-A6FA-188D9B12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41F1-F725-4272-B05F-B5A25C83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1D3B6-DC67-4C9B-8C60-DA49F54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240-3C7C-417C-8780-12C62CCCF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8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15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2BA-1759-44B2-BACF-9DE48F726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0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61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3298-0DC1-448B-A54B-15993B318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507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351-3575-4938-BD2D-36583FFDB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33"/>
          <p:cNvSpPr/>
          <p:nvPr/>
        </p:nvSpPr>
        <p:spPr>
          <a:xfrm>
            <a:off x="0" y="115920"/>
            <a:ext cx="994572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егородский государственный университе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И.Лобачевского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культет Вычислительной математики и кибернетики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7" name="Object 1036"/>
          <p:cNvGraphicFramePr/>
          <p:nvPr/>
        </p:nvGraphicFramePr>
        <p:xfrm>
          <a:off x="128520" y="333360"/>
          <a:ext cx="1028880" cy="10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0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333360"/>
                    <a:ext cx="1028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A436-67EF-428C-BA84-5D90BAEB2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3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DB4-5843-45EC-A7ED-3B967A5AE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39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53DD-9699-4EC0-BA0E-A3B3E8D28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7BC-A937-4F2B-A33F-6C02FB9B7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231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1900-8C93-4964-9A2D-D072A5358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277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5DC-E58A-437B-9A8F-E9BF11008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323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67F0-8299-49FF-9CA0-455551542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369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9A18-BDD8-4B88-85AE-2674839A8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6160" y="3574800"/>
            <a:ext cx="84204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бораторная работ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араллеливание циклов с использованием библиоте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 Threading Building Block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примере задачи матрично-векторного умнож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28400" y="2205000"/>
            <a:ext cx="90471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4024440" y="5645520"/>
            <a:ext cx="58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еров И.Б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соев А.В., Сиднев А.А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федра математического обеспечения ЭВМ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ледовательный алгоритм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95000" y="1197000"/>
            <a:ext cx="8915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ые да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– матрица размерн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– вектор, состоящий 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– вектор 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7588-6823-4191-AFAD-4BB24B767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952560" y="3503880"/>
            <a:ext cx="7929360" cy="2562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П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ледовательный алгоритм умножения матрицы на вектор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m; i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[i] = 0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[i] += A[i][j] * b[j]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ледовательный алгоритм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замеч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для снижения сложности и упрощения получаемых соотношений  будем предполагать, что матр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квадратной, т.е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м пошагово реализацию последовательной программы умножения матрицы на в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им, что вариант, который будет рассмотрен, разумеется, не является единствен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м также считать основной целью корректность работы полученной реализации, а не ее производительность на какой-либо конкретной архитек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579-68BE-4638-96ED-4AC4F8CAB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95360" y="1197000"/>
            <a:ext cx="8958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1 – Открытие проект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ialMatrix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ойте проек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alMatrix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ткрытия проекта в ок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дважды щелкните на файле исходного ко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alM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ак это показано на рис. 1. После этих действий программный код, который предстоит в дальнейшем расширить, будет открыт в редакторе к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icrosoft Visual Studio 20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BD8-9C35-4658-BC52-80FCFB514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3166920" y="2071800"/>
            <a:ext cx="26942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95000" y="1197000"/>
            <a:ext cx="89154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е представленный код и назначение основных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те внимание, что для хранения матриц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ется одномерный массив, в котором матрица хранится построчно в соответствии с соглашениями язы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аким образом, элемент, расположенный на пересеч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й строки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го столбца матрицы, в одномерном массиве имеет индек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*Size+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коман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build Solu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приложен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bug/Start debug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419-FAA4-4A9D-BCE9-B3982AAC1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3" name="Rectangle 1"/>
          <p:cNvSpPr/>
          <p:nvPr/>
        </p:nvSpPr>
        <p:spPr>
          <a:xfrm>
            <a:off x="595440" y="2076840"/>
            <a:ext cx="8739000" cy="1067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atri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//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 matrix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Vect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//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 vector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;  // Result vector for matrix-vector multiplication 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ize;         // Sizes of initial matrix and vector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95000" y="1196640"/>
            <a:ext cx="89154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е 2 – Ввод размеров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дания исходных данных последовательного алгоритма умножения матрицы на вектор реализуем функц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ocessInitializ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функция предназначена для определения размеров матрицы и вектора, выделения памяти для всех объектов, участвующих в умножении (исходной матриц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ектор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Vect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результата умнож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esul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а также для задания значений элементов исходной матрицы и век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567-1288-410A-B6A2-BA6F6D953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9" name="Rectangle 1"/>
          <p:cNvSpPr/>
          <p:nvPr/>
        </p:nvSpPr>
        <p:spPr>
          <a:xfrm>
            <a:off x="380880" y="4292280"/>
            <a:ext cx="9286920" cy="1465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memory allocation and data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&amp;pMatrix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&amp;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sul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95000" y="1197000"/>
            <a:ext cx="89154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ом этапе необходимо определить размеры объектов (задать значение перемен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 В тело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ssInitializ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бавьте выделенный фрагмент к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D688-259B-4ED5-88BD-AE0686966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5" name="Rectangle 1"/>
          <p:cNvSpPr/>
          <p:nvPr/>
        </p:nvSpPr>
        <p:spPr>
          <a:xfrm>
            <a:off x="523800" y="2869200"/>
            <a:ext cx="9024840" cy="2562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memory allocation and data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&amp;pMatrix, double* &amp;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&amp;pResult, int &amp;Size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etting the size of initial matrix and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Enter size of the initial objects: 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"%d", &amp;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Chosen objects' size = %d"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5000" y="1197000"/>
            <a:ext cx="89154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троки, выводящей на экран приветствие, добавьте вызов функции инициализации процесса вычисле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ssInitializ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тело основной функции последовательного при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87BF-25A2-488F-A206-E9DE6E6FE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1" name="Rectangle 1"/>
          <p:cNvSpPr/>
          <p:nvPr/>
        </p:nvSpPr>
        <p:spPr>
          <a:xfrm>
            <a:off x="952560" y="2813760"/>
            <a:ext cx="8286840" cy="3385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Matrix;  // Initial matrix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Vector;  // Initial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;  // Result vector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ize;         // Sizes of initial matrix and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_t start, finish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uration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Serial matrix-vector multiplication program\n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(pMatrix, pVector, pResult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95000" y="1197000"/>
            <a:ext cx="89154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. Убедитесь в том, что значение перемен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ется коррек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09D5-4C55-4E0C-8172-6AD8F9E50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pSp>
        <p:nvGrpSpPr>
          <p:cNvPr id="647" name="Группа 8"/>
          <p:cNvGrpSpPr/>
          <p:nvPr/>
        </p:nvGrpSpPr>
        <p:grpSpPr>
          <a:xfrm>
            <a:off x="738360" y="2428920"/>
            <a:ext cx="8577000" cy="2500200"/>
            <a:chOff x="738360" y="2428920"/>
            <a:chExt cx="8577000" cy="2500200"/>
          </a:xfrm>
        </p:grpSpPr>
        <p:pic>
          <p:nvPicPr>
            <p:cNvPr id="648" name="Picture 1" descr=""/>
            <p:cNvPicPr/>
            <p:nvPr/>
          </p:nvPicPr>
          <p:blipFill>
            <a:blip r:embed="rId1"/>
            <a:stretch/>
          </p:blipFill>
          <p:spPr>
            <a:xfrm>
              <a:off x="738360" y="2428920"/>
              <a:ext cx="85770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8" descr=""/>
            <p:cNvPicPr/>
            <p:nvPr/>
          </p:nvPicPr>
          <p:blipFill>
            <a:blip r:embed="rId2"/>
            <a:stretch/>
          </p:blipFill>
          <p:spPr>
            <a:xfrm>
              <a:off x="1091880" y="2950560"/>
              <a:ext cx="5510160" cy="20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95000" y="119664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обратимся к вопросу контроля правильности в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рагмент кода, который производит ввод размера объектов, поместим в цикл с постуслов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, проверьте работоспособ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4F03-3A5A-437A-B8B4-705973D1B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5" name="Rectangle 1"/>
          <p:cNvSpPr/>
          <p:nvPr/>
        </p:nvSpPr>
        <p:spPr>
          <a:xfrm>
            <a:off x="309600" y="2414520"/>
            <a:ext cx="9381960" cy="2837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etting the size of initial matrix and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Enter size of the initial objects: 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"%d", &amp;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Chosen objects size = %d"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ize &lt;= 0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Size of objects must be greater than 0!\n");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= 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95000" y="1197000"/>
            <a:ext cx="89154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е 3 – Ввод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инициализации должна также выделять память для хранения объектов (добавьте выделенный код в тело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ocessInitializ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33BB-F1BF-4177-B99D-F4752CC63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1" name="Rectangle 1"/>
          <p:cNvSpPr/>
          <p:nvPr/>
        </p:nvSpPr>
        <p:spPr>
          <a:xfrm>
            <a:off x="852480" y="2590560"/>
            <a:ext cx="8869320" cy="4208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memory allocation and data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&amp;pMatrix, double* &amp;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&amp;pResult, int Size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etting the size of initial matrix and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Size &lt;= 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mory allocation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atrix = new double [Size * Size]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Vector = new double [Size]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sult = new double [Size]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138-FD8B-4A9C-B946-805D8DA98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 по выполнению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матрично-векторного у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ий обз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95000" y="1197000"/>
            <a:ext cx="8915400" cy="15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необходимо задать значения всех элементов матриц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Vec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выполнения этих действий реализуем еще одну функц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ummyData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32FF-B35E-4A3A-8A77-996CCD6C7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7" name="Rectangle 1"/>
          <p:cNvSpPr/>
          <p:nvPr/>
        </p:nvSpPr>
        <p:spPr>
          <a:xfrm>
            <a:off x="933480" y="2813760"/>
            <a:ext cx="7877160" cy="3385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simple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ummyData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pMatrix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Vector, int Size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, j;  // Loop variables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Size; i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Vector[i] = 1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 = 0; j &lt; Size; j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atrix[i * Size + j] = i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95000" y="1196640"/>
            <a:ext cx="89154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ummyDataInitializ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выполнить после выделения памяти внутри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ocessInitializ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634-9373-42AD-9D67-6997C4027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3" name="Rectangle 1"/>
          <p:cNvSpPr/>
          <p:nvPr/>
        </p:nvSpPr>
        <p:spPr>
          <a:xfrm>
            <a:off x="880920" y="2017440"/>
            <a:ext cx="8358480" cy="3981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memory allocation and data initialization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&amp;pMatrix, double* &amp;pVector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&amp;pResult, int Size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etting the size of initial matrix and vect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Size &lt;= 0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mory allocation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nitialization of matrix and vector elements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ummyDataInitialization(pMatrix, pVector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95000" y="1196640"/>
            <a:ext cx="891540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уем еще две функции, которые помогут контролировать ввод данных, – функции форматированного вывода объектов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intMatr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int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3E85-C5A5-4B83-9DEE-79A5F9700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9" name="Rectangle 1"/>
          <p:cNvSpPr/>
          <p:nvPr/>
        </p:nvSpPr>
        <p:spPr>
          <a:xfrm>
            <a:off x="1014480" y="2161440"/>
            <a:ext cx="8341920" cy="4241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formatted matrix outpu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atrix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pMatrix, int RowCount, int ColCount)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, j; // Loop variables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RowCount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 = 0; j &lt; ColCount; j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%7.4f ", pMatrix[i * ColCount + j]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"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formatted vector outpu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pVector, int Size)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Size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%7.4f ", pVector[i]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"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95000" y="1196640"/>
            <a:ext cx="89154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м вызов этих функций в основную функцию при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. Убедитесь в том, что ввод данных происходит корректно. Выполните несколько запусков приложения, задавая различные размеры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1EA2-56AC-4C8D-AD2F-19A179B8E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902520" y="2080440"/>
            <a:ext cx="7998840" cy="2014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mory allocation and data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(pMatrix, pVector, pResult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atrix and vector output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Initial Matrix: \n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atrix(pMatrix, Size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 Vector: \n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(pVector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95000" y="1197000"/>
            <a:ext cx="89154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Завершение процесса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ыполнением матрично-векторного умножения сначала разработаем функцию для корректного завершения процесса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D09-7AEE-4FE3-BC3F-27139E113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1" name="Rectangle 1"/>
          <p:cNvSpPr/>
          <p:nvPr/>
        </p:nvSpPr>
        <p:spPr>
          <a:xfrm>
            <a:off x="880920" y="2869200"/>
            <a:ext cx="7786800" cy="2562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computational process termin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Termin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pMatrix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ete [] pMatrix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ete [] pVector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ete [] pResul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95000" y="1197000"/>
            <a:ext cx="891540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ssTermin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обходимо выполнить перед завершением той части программы, которая выполняет умножение матрицы на век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тесь в том, что оно выполняется коррек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608D-809A-4B71-A6A5-AC346EA58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902520" y="2441520"/>
            <a:ext cx="7998840" cy="2837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mory allocation and data in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(pMatrix, pVector, pResult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atrix and vector output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 ("Initial Matrix: \n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atrix (pMatrix, Size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 ("Initial Vector: \n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 (pVector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mputational process termin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Termination(pMatrix, pVector, pResult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95000" y="1196640"/>
            <a:ext cx="917244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5 – Реализация умножения матрицы на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полнения умножения матрицы на вектор реализуем функц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rialResultCalcul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CAF-643B-4DA7-800A-C7304B20B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690120" y="2586960"/>
            <a:ext cx="8684640" cy="3385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matrix-vector multiplic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ialResultCalcul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pMatrix, double* pVector,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, int Size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, j;  // Loop variables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Size; i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sult[i] = 0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 = 0; j &lt; Size; j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sult[i] += pMatrix[i * Size + j] * pVector[j]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95000" y="1196640"/>
            <a:ext cx="891540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м вызов функции вычисления умножения матрицы на вектор из основной программы. Для контроля правильности выполнения умножения распечатаем результирующий век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64B-8437-4992-BA76-7779110D5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9" name="Rectangle 1"/>
          <p:cNvSpPr/>
          <p:nvPr/>
        </p:nvSpPr>
        <p:spPr>
          <a:xfrm>
            <a:off x="1153800" y="2231640"/>
            <a:ext cx="7823880" cy="3981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ory allocation and data initialization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(pMatrix, pVector, pResult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atrix and vector outpu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Initial Matrix: \n"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atrix(pMatrix, Size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Initial Vector: \n"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(pVector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atrix-vector multiplication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ialResultCalculation(pMatrix, pVector, pResult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rinting the result vect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 Result Vector: \n"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(pResult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mputational process termination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Termination(pMatrix, pVector, pResult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95000" y="1196640"/>
            <a:ext cx="891540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результат работы алгоритма умножения матрицы на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9FB1-7301-4B8E-BDD9-B18007D40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pSp>
        <p:nvGrpSpPr>
          <p:cNvPr id="715" name="Группа 8"/>
          <p:cNvGrpSpPr/>
          <p:nvPr/>
        </p:nvGrpSpPr>
        <p:grpSpPr>
          <a:xfrm>
            <a:off x="393840" y="2714760"/>
            <a:ext cx="9202680" cy="3000240"/>
            <a:chOff x="393840" y="2714760"/>
            <a:chExt cx="9202680" cy="3000240"/>
          </a:xfrm>
        </p:grpSpPr>
        <p:pic>
          <p:nvPicPr>
            <p:cNvPr id="716" name="Picture 1" descr=""/>
            <p:cNvPicPr/>
            <p:nvPr/>
          </p:nvPicPr>
          <p:blipFill>
            <a:blip r:embed="rId1"/>
            <a:stretch/>
          </p:blipFill>
          <p:spPr>
            <a:xfrm>
              <a:off x="393840" y="2714760"/>
              <a:ext cx="920268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2" descr=""/>
            <p:cNvPicPr/>
            <p:nvPr/>
          </p:nvPicPr>
          <p:blipFill>
            <a:blip r:embed="rId2"/>
            <a:stretch/>
          </p:blipFill>
          <p:spPr>
            <a:xfrm>
              <a:off x="781200" y="3115800"/>
              <a:ext cx="5510520" cy="21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95360" y="1197000"/>
            <a:ext cx="9316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ние 6 – Проведение вычислительных эксперим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реализации параллельной версии алгоритма нам потребуется оценивать ее уско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еобходимо провести вычислительные эксперименты и замерить времена работы последовательной вер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время выполнения последовательной реализации разумно для достаточно больших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вать элементы больших матриц и векторов будем при помощи датчика случай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реализуем еще одну функцию задания элемен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andomDataInitializatio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атчик случайных чисел инициализируется текущим значением време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BD8-D7A7-4502-85D1-DAC805919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7DCA-AC46-44B8-A46C-33BC02631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едение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9800" y="1216080"/>
            <a:ext cx="95058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боте рассматривается один из инструментов параллельного программирования, предназначенный для распараллеливания решения задач в системах с общей памятью, –  библиоте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Threading Building Block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иде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+ для быстрой разработ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сс-платформе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рошо масштабируемых параллельных при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ы абстрагир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арадигм многопоточного программирования, позволяя сосредоточиться непосредственно на реш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ой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95000" y="4786200"/>
            <a:ext cx="89154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адочных целях следует инициализировать датчик случайных чисел при помощи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rand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ним и тем же числом, что обеспечит нам одинаковые последовательности случайных чисел и позволит обнаружить ошибки, если они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C587-8A6E-40B8-BD1B-49E33AAE4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880920" y="1087920"/>
            <a:ext cx="8239320" cy="36601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random initialization of objects' elements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domData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* pMatrix,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Vector,int Size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, j;  // Loop variables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rand(unsigned(clock())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Size; i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Vector[i] = rand() / double(100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 = 0; j &lt; Size; j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atrix[i * Size + j] = rand() / double(100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95000" y="1196640"/>
            <a:ext cx="891540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м вызывать эту функцию вместо ранее разработанной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ummyDataInitializ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 генерировала данные так, чтобы можно было легко проверить правильность работы алгорит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6A31-EFE7-4A86-B8AA-08D24B217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4" name="Rectangle 1"/>
          <p:cNvSpPr/>
          <p:nvPr/>
        </p:nvSpPr>
        <p:spPr>
          <a:xfrm>
            <a:off x="547920" y="2442960"/>
            <a:ext cx="8958960" cy="3111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for memory allocation and data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ssInitialization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ouble* &amp;pMatrix, double* &amp;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&amp;pResult, int Size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ize of initial matrix and vector defini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mory allocation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Random data initializ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domDataInitialization(pMatrix, pVector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95000" y="1196640"/>
            <a:ext cx="891540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уем функц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etTime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позволяет достаточно точно замерить время выполнения участка кода с использованием функций библиоте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AP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F812-6B38-49D0-B42C-BC71A2D3D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0" name="Rectangle 1"/>
          <p:cNvSpPr/>
          <p:nvPr/>
        </p:nvSpPr>
        <p:spPr>
          <a:xfrm>
            <a:off x="765360" y="2222280"/>
            <a:ext cx="8730360" cy="3981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that converts numbers form LongInt type to double type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ToDoubl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ARGE_INTEGER x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result =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(double)x.HighPart) * 4.294967296E9 + (double)((x).LowPart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sul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unction that gets the timestamp in seconds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Tim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RGE_INTEGER lpFrequency, lpPerfomanceCoun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ryPerformanceFrequency(&amp;lpFrequenc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ryPerformanceCounter(&amp;lpPerfomanceCount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LiToDouble(lpPerfomanceCount) / LiToDouble(lpFrequenc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95000" y="1197000"/>
            <a:ext cx="8915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etT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вращает текущее значение времени, которое отсчитывается от фиксированного момента в прошлом, в секундах. Следовательно, вызвав эту функцию два раза – до и после исследуемого фрагмента можно вычислить время его работы. Например, этот фрагмент вычислит вре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боты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CE15-02AF-40A9-ACC9-A8D43109A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2679840" y="3863880"/>
            <a:ext cx="4295520" cy="1465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t1, t2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= GetTime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 = GetTime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uration = (t2 - t1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95000" y="1196640"/>
            <a:ext cx="8915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ует собственный способ замера времени, сочетающий высокую разрешаемую способность с простотой использования. Для этого предусмотрен специальный клас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ick_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ий содержит статический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ick_count::now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звращающий текущее время как объект клас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ick_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раньше, для измерения времени необходимо вызвать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ow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начале и в конце фрагмента программы с вычислительной частью,  после чего вычесть из второго значения перв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результат можно перевести в секунды при помощи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ick_count::seconds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им, что в реализации библиотеки TBB для ОС Windows фун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ick_count::now(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использованный на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ueryPerformanceCoun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2A6-E54F-4D1A-BDCC-784BA96A3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95000" y="1197000"/>
            <a:ext cx="8915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описанным способом замера времени, необходимо подключить заголовочный файл tbb/tick_count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B2E-26F0-43ED-83C9-8AED7B5F2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7" name="Rectangle 1"/>
          <p:cNvSpPr/>
          <p:nvPr/>
        </p:nvSpPr>
        <p:spPr>
          <a:xfrm>
            <a:off x="832680" y="2514600"/>
            <a:ext cx="8410320" cy="3111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ck_count Start, Finish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atrix-vector multiplic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t = tick_count::now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ialResultCalculation(pMatrix, pVector, pResult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ish = tick_count::now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uration = (Finish - Start).seconds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rinting the result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 ("\n Result Vector: \n"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(pResult, Size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rinting the time spent by matrix-vector multiplication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 Time of serial execution: %f", Duration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ведения вычислительных экспериментов с большими объектами отключите печать матриц и векторов (закомментируйте соответствующие строки код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тесь, что выбрана конфигура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вычислительные экспер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FC2-C7AC-4068-957D-5060CF190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7 – Оценка эффе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программу несколько раз, задавая одни и те же размеры исходных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рудно видеть, что время работы меняется от запуска к запуску. Эффект вызван особенностями работы программ под управлением многозадачной операционной системы и погрешностью механизма изме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этим существуют несколько методик организации замеров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в данной лабораторной работе рекомендуем выполнить приложение несколько раз и выбрать минимальное из полученных времен работы при одних и тех же размерах матрицы и 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E665-EE8E-47C2-861D-DD6D9C17F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оследоват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95000" y="1197000"/>
            <a:ext cx="924876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эксперименты, результаты занесите в таблицу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8A8D-D8FB-4542-9B18-C8F0C9E25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3" name="Прямоугольник 8"/>
          <p:cNvSpPr/>
          <p:nvPr/>
        </p:nvSpPr>
        <p:spPr>
          <a:xfrm>
            <a:off x="1719720" y="1857240"/>
            <a:ext cx="59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nard MT Condensed"/>
              </a:rPr>
              <a:t>Время работы последовательного приложения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38360" y="2576520"/>
          <a:ext cx="8286480" cy="3048120"/>
        </p:xfrm>
        <a:graphic>
          <a:graphicData uri="http://schemas.openxmlformats.org/drawingml/2006/table">
            <a:tbl>
              <a:tblPr/>
              <a:tblGrid>
                <a:gridCol w="2761920"/>
                <a:gridCol w="2762280"/>
                <a:gridCol w="2762280"/>
              </a:tblGrid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боты последовательного приложения (сек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аллельный алгоритм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ы распараллеливания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йствия для определения эффективного способа организации параллельных вычислений могут состоять в следующ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анализ имеющейся вычислительной схемы и осуществить ее разделен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компози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 части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оторые могут быть реализованы в значительной степени независимо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для сформированного набора подзадач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формационные взаимо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должны осуществляться в ходе решения исходной поставленн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распределение выделе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зада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вычислительным элементам (процессорам, ядр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460B-7FA4-4302-891A-B47364964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инципов функционирования и вопросов эффективного использ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одится в данной лабораторной работе на пример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и матрично-векторного умн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тавшей одной из классических задач для формирования навыков параллельного программирования. При этом основной упор делается на ознакомление 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параллеливанием цик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выполнения работы предполагается, что слушатели имеют навыки разработки объектно-ориентированных программ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+, а также владеют основами параллельного программирования в системах с общей памя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3D3-0DD0-4BEB-BFE3-49093618C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аллельный алгоритм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ы распараллелива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тельно обеспечить примерно одинаковый объем вычислений для каждого используемого потока – это позволит обеспечить равномерную вычислительную загрузку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лансиров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ие подзадач между процессорами (ядрами) желательно выполнено таким образом, чтобы число информационных связей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муникационных взаимо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между подзадачами было миним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8CF-2C4B-472F-9351-A21278A42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аллельный алгоритм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е подзадач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распределения данных для матричных алгоритмов содержится в разделе 7 учебного курса [8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общие и широко используемые способы разделения матриц состоят в разбиении данных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вертикали или горизонтали) или на прямоугольные фрагмент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л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 будет рассматривать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оритм умножения матрицы на вектор, основанный на представлении матрицы непрерывными наб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ризонтальными поло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азовая подзадач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ерация скалярного умножения одной строки матрицы на в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24E-F363-428F-A36D-A1E36B65C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аллельный алгоритм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информационных зависимосте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EDC-1E1C-4404-AACF-CEA1BACDC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795" name="Object 1"/>
          <p:cNvGraphicFramePr/>
          <p:nvPr/>
        </p:nvGraphicFramePr>
        <p:xfrm>
          <a:off x="1036800" y="1160640"/>
          <a:ext cx="771840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160640"/>
                    <a:ext cx="771840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лельный алгоритм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ирование и распределение подзадач по вычислительным элемент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цессе умножения плотной матрицы, разбитой на строки или столбцы, на вектор количество вычислительных операций для получения скалярного произведения одинаково для всех базовых под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, когда число вычислительных элементов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ньше числа базовых подзадач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зможно объединение базовых подзадач, для того чтобы каждый вычислительный элемент выполнял несколько таких задач, соответствующих непрерывной последовательности строк матриц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м случае по окончании вычислений каждая базовая подзадача определяет набор элементов результирующего вектора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esul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DEF-6440-4284-936A-A30E6EA13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этого упражнения необходимо реализовать параллельный алгоритм матрично-векторного умножения на основе имеющейся реализации последовательного алгорит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будут рассмотрены следующие возможности библиотеки TB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лизация библиоте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ка проекта для работы с библиоте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алгорит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перечисленного выше будет изучено влияние значений параметров библиотеки на время выполнения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D178-D958-407D-86DF-8C676793C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1 – Открытие проект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llelMatrixVectorM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проек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MatrixVectorM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8FC3-96F8-468C-9153-767C06265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3166920" y="2286000"/>
            <a:ext cx="3310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ай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M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ложена фун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дущего параллельного при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же в фай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M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ложены функции, перенесенные сюда из проекта, содержащего последовательный алгоритм умножения матрицы на век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ummyDataInitializ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ndomDataInitializ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rialResultCalcul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int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intVec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функции можно будет использовать и в параллельной програм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мпилируйте и запустите приложение стандартными средств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Visual Stud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бедитесь в том, что в командную консоль выводится приветствие: 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multiplication prog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52CD-F05E-41DE-9CCC-88B0798CD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95360" y="1197000"/>
            <a:ext cx="9244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2 – Настройка проекта для использовани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становка путей к заголовочным файлам (2 способ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ь фай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Program Files\Intel\&lt;TBB Directory&gt;\&lt;arch&gt;\vc8\bin\tbbvars.b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&lt;arch&gt; принимает значения ia32 (Intel® IA-32 processors) или em64t (Intel® EM64T processo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ать пунк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крывшемся окне выбрать пунк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jects and Solutions\VC++ Directo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выпадающем спис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ow directories 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ать пунк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clude fi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жать левой кнопкой мыши на изображении папки и указать путь к пап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иблиоте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Program Files\Intel\&lt;TBB Directory&gt;\include\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ж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9E2-5706-48CE-80AD-D42B25F99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95360" y="1197000"/>
            <a:ext cx="9244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2 – Настройка проекта для использовани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становка путей к библиотекам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брать пунк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открывшемся окне выбра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rojects and Solutions\VC++ Directorie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выпадающем списк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Show directories 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брать пунк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Library file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ажать левой кнопкой мыши на изображении папки и указать путь к папк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иблиоте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C:\Program Files\Intel\&lt;TBB Directory&gt;\vc8\lib\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ажа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кн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жать правой кнопкой мыши на названии проекта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arallelMatrixVectorMul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 выбрать пунк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пунк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Linker\Inpu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 пол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dditional Dependencie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вести название библиотеки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bb_debug.li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л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борки),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bb.li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л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бор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ABF5-84ED-413E-80E6-2EAFE29A9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 3 – Инициализация библиоте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у работы с библиотекой предшествует обязательная процедура инициализации. Для этого необходимо создать экземпляр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scheduler_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E47E-0EFA-4F90-BFDF-6A6B637F1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омендации по выполнению работы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000" y="1197000"/>
            <a:ext cx="9139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ю данной лабораторной работы является приобретение практических навыков распараллеливания циклов для систем с общей памятью при помощи библиоте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ные требования (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el® Pentium® 4 процессор, 512 Мб ОЗУ, 300 Мб дисков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уем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Pentium 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р с поддержкой техноло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yper-Threading (HT Technology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l® Xeon®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р, 1 Гб О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зучения всех аспектов «реальных» параллельных вычислений желательно использование многоядерных процессоров компа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DD62-DF2B-4BB6-B3DC-91E360488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 3 – Инициализация библиоте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ор класс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sk_scheduler_ini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полученных параметров выполняет следующи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ывает библиотеке TBB на необходимость автоматически определить число создаваемых потоков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_scheduler_init::automati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является значением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ывает библиотеке создать нужное разработчику число потоков (параметр конструктора – число потоков). Указывает библиотеке на необходимость отложить инициализацию до момента,  когда это будет необходимо разработчику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_scheduler_init::deferr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В этом случае сама инициализация  происходит только после вызова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_scheduler_init::initial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араметро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исло потоков, которое необходимо разработч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227-BFBC-4861-8065-463BB34C6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данной лабораторной работы мы рекомендуем придерживаться схемы, подразумевающей инициализацию планировщика потоков в начале программы с параметром по умолчанию (автоматическое определение числа потоков), и завершение работы библиотеки в конце программы. Достаточно часто предлагаемая схема обеспечивает наилучшую производ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452-1F6B-4EC5-BDA5-09D31DBAB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95000" y="1196640"/>
            <a:ext cx="89154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лизация библиоте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FC75-3972-46C6-A620-DF261BA09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452520" y="1946880"/>
            <a:ext cx="8739000" cy="3934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"tbb/task_scheduler_init.h"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Matrix;  // The first argument - initial matrix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Vector;  // The second argument - initial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;  // Result vector for matrix-vector multiplication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iz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 Sizes of initial matrix and vec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ем параллельную программу для умножения матрицы на вектор при ленточной схеме разделения данных по стр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рганизации параллельных вычислений предполагается использование многопроцессорных систем с общей памятью, что позволяет нам использо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алгоритм состоит в умножении строк матрицы на вектор с использованием нескольких пот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11B2-B05F-499A-BFD1-77B83B7A2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м понимать далее п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тераци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цедуру вычисления скалярного произведения строки матрицы на в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каждый поток выполняет несколько таких итераций, фактически, умножая горизонтальную полосу матриц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е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Vec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числяя блок элементов результирующего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esu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им полное отсутствие зависимости по данным между разными итерациями, что создает предпосылки для хорошего распараллел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DD2-1B99-4898-ADAA-544EDD1D5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им также, что матр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Vec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esu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 общими для всех пот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элементы матриц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Matr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Vec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ся только на чтение, а элементы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esu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жду потоками разделяются без пересе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самым использование общих данных является корректным и организация параллельных вычислений не составляет больши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2C6-FDEA-492E-B5B2-824861919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99BC-9955-4600-962D-91D0432C3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вычислений может быть представлена в виде цикла, итерацией которого является скалярное произвед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ет возможность легко реализовать параллельную версию таких вычислений. Для этого в библиотеки имеется шаблонная фун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&lt;typename Range, typename 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arallel_for(const Range&amp; range, const Body&amp; bo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457C-8276-4A97-B8BF-8D1D06CC3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95000" y="1197000"/>
            <a:ext cx="917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&lt;typename Range, typename 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arallel_for(const Range&amp; range, const Body&amp; bo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аргумент этой функци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терационное пространство, к которому необходимо применить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ody::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аргумент функции – функтор (класс специального вида, основная функциональность которого сосредоточена в метод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робное описание того, что такое итерационное пространство, может быть найдено в документе «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краткое описание» настоящего к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1DDB-DBEF-49FD-B91C-00D23A32B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95000" y="1197000"/>
            <a:ext cx="917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е нам в этой задаче одномерное итерационное пространство (действительно, мы име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ераций, состоящих в вычислении скалярного произведения) моделируется шаблонным класс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locked_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&lt;typename Value&gt; class blocked_ran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е пространство задает диапазон значений в виде полуинтерва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begin, en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размером порции (количеством итераций), обрабатываемым одним потоком, рав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F684-1731-4BC8-BB37-3E28A7284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омендации по выполнению работы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95000" y="1197000"/>
            <a:ext cx="9139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ю данной лабораторной работы является приобретение практических навыков распараллеливания циклов для систем с общей памятью при помощи библиоте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ные требования (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icrosoft Windows XP Professional, Microsoft Windows Server 2003, или Microsoft Windows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el® C++ Compiler 9.0 for Windows или стар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icrosoft Visual C++ 7.1 или стар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icrosoft Internet Explorer 6.0 или стар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dobe Reader 6.0 или стар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9CB-4AA4-4E2B-A0EF-ADAF52434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95000" y="1197000"/>
            <a:ext cx="917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й задаче имеет смысл считать, чт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begin = 0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end = Size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да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grainsize = 1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о умолчанию), мы реализуем максимально возможный параллелизм, так как библиотека сможет при наличии достаточного числа процессоров/ядер создать число потоков равно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еальной ситуации (когда число процессоров/ядер много меньше Size) в отличие о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penMP задание grainsize = 1 не означает, что потоки будут обрабатывать итерации в каком бы то ни было заранее нам известном регулярном порядке. Решение о том, какая итерация каким потоком будет выполняться, принимает библиотека в процессе самого выпол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545-693A-49B0-A454-A1B0836D1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95000" y="1197000"/>
            <a:ext cx="917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параметров выполняется при помощи следующего констру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ed_range(Value begin, Value end, size_t grainsize =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выборе знач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мы поговорим позж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3C33-0510-45A3-96A9-B9649960F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000" y="1197000"/>
            <a:ext cx="917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именении 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унктор определяет действие, которое должно быть выполнено потоком над пакетом итераций размеро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Функтор дл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ен удовлетворять следующим требования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честве полей класса иметь все общие для потоков данн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ть конструктор-инициализато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ть конструктор копир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ть деструкто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ть константный метод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operator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олучающий константную ссылку на итерационное пространство, и реализующий вычис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17EB-A340-43DA-9FDD-27A4BE196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95000" y="1197000"/>
            <a:ext cx="917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яет разделение итерационного пространств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 не пересекающиеся подмножества размер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зывает для каждого подмножества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ody::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тдельном пот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запуском вычисле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копию функтора для каждого потока, что требует корректно реализованного конструктора коп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завершения работ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ничтожает созданные объекты (что требует наличия деструкто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901D-1E37-40E3-A881-7A0309832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95000" y="1196640"/>
            <a:ext cx="91724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, реализация функ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9BE-45C2-4762-B87E-B00F6AF06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9" name="Rectangle 1"/>
          <p:cNvSpPr/>
          <p:nvPr/>
        </p:nvSpPr>
        <p:spPr>
          <a:xfrm>
            <a:off x="65160" y="2282760"/>
            <a:ext cx="9815400" cy="4483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MatrixVectorMultiplicat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double *pMatrix, *pvector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Result;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int Size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 const blocked_range&lt;int&gt;&amp; r ) cons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egin = r.begin(); int end   = r.end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begin; i != end; i++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sult[i] = 0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j = 0; j &lt; Size; j++)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sult[i] += pMatrix[i * Size + j] * pVector[j]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rixVectorMultiplicator(double *pm, double *pv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*pr, int sz):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atrix(pm), pVector(pv), pResult(pr), Size(sz)  {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5000" y="1196640"/>
            <a:ext cx="94107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м функцию параллельного вычисления умножения матрицы на вектор при помощи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1ECA-0B31-4E9D-A3C2-076736DB9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5" name="Rectangle 1"/>
          <p:cNvSpPr/>
          <p:nvPr/>
        </p:nvSpPr>
        <p:spPr>
          <a:xfrm>
            <a:off x="334800" y="3650400"/>
            <a:ext cx="9233280" cy="1739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ResultCalculation (double* pMatrix, double* 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, int Size, int grainsize)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_range&lt;int&gt;(0, Size, grainsiz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rixVectorMultiplicator(pMatrix, pVector, pResult, Siz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5000" y="1196640"/>
            <a:ext cx="94107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м функцию параллельного вычисления умножения матрицы на вектор при помощи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разработанной функции предусмотрен для будущих экспериментов с размером порции ит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21A-2779-4225-885F-40EC3C87E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1" name="Rectangle 1"/>
          <p:cNvSpPr/>
          <p:nvPr/>
        </p:nvSpPr>
        <p:spPr>
          <a:xfrm>
            <a:off x="361800" y="3221640"/>
            <a:ext cx="9233280" cy="1739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ResultCalculation (double* pMatrix, double* pVector,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, int Size, int grainsize) 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_range&lt;int&gt;(0, Size, grainsiz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rixVectorMultiplicator(pMatrix, pVector, pResult, Siz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5000" y="1197000"/>
            <a:ext cx="941076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 – Распараллеливание цикла средствами библиотек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BB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(ито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1DE-2259-46C6-83F6-26F09873BF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7" name="Rectangle 1"/>
          <p:cNvSpPr/>
          <p:nvPr/>
        </p:nvSpPr>
        <p:spPr>
          <a:xfrm>
            <a:off x="3240" y="2068560"/>
            <a:ext cx="9902880" cy="4759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"tbb/task_scheduler_init.h"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"tbb/blocked_range.h"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"tbb/parallel_for.h"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...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Matrix;  // The first argument - initial matrix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Vector;  // The second argument - initial vect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pResult;  // Result vector for matrix-vector multiplication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ize;         // Sizes of initial matrix and vect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...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...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ResultCalculation(pMatrix, pVector, pResult,Size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Vector(pResult,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...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5360" y="1197000"/>
            <a:ext cx="9601200" cy="28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Проведение вычислительных экспери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сборку и запуск при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тесь в отсутствии ошибок и правильной работе при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тесь, что время работы параллельного приложения осталось примерно таким же, как и у последова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DD6-1F1A-4CB1-A591-1F87CC9D1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95360" y="1197000"/>
            <a:ext cx="9601200" cy="28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Выбор значения параметр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ет число итераций из итерационного пространства, которое составит размер порции вычислений для передачи отдельному пот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ерационное пространство распределяется между всеми потоками в зависимости от значения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8909-DEBA-47B1-ABBD-409F8F3A7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ктура рабо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способов инициализации и завершения работы библиотеки TB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ие функциональности библиотеки TBB, связанной с распараллеливанием цик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ор одного из вариантов решения учебной задачи –умножения матрицы на вектор, демонстрирующей принципы распараллеливания циклов при помощи библиотеки TB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дополнительных заданий, состоящих в самостоятельной разработке и отладке параллельных программ, реализующих распараллеливание циклов при помощи TB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E88C-4E00-4485-BD3B-3E283F7F3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Выбор значения параметр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распределения итерационного простран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общему числу итераций, то все итерации будут выполнены на одном пот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&lt;общее число итераций&gt; / &lt; число вычислительных устройств &gt;, то каждый поток (скорее всего) выполнит одинаковое число итераций, равн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ньше, чем &lt;общее число итераций&gt; / &lt;число число вычислительных устройств &gt;, планировщик потоков распределит итерации между потоками по специальному алгоритму. Алгоритм описан в документе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аткое опис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BA7F-86E4-4CA5-A1D1-2135CFC9A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Выбор значения параметр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значения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льно влияет на производительность параллельной программы. При этом невозможно указать какое-то одно «замечательное» значение, которое подойдет для всех задач. На практи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бирается эксперимен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й стороны, мал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ствует масштабируемост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ругой стороны, работа планировщика потоков занимает определенное время, поэтому, чем меньш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ем больше времени потребуется планировщику на распределение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4DA7-439A-4496-95FA-3ADD7DC0D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Выбор значения параметр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должно быть слишком маленьким, т.к. это может негативно отразиться на времени работы приложения (большие накладные расходы на работу планировщи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должно быть слишком большим, т.к. это может негативно отразиться на масштабируемост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актике приходится искать «золотую середин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D315-A0F1-49DC-9FFA-89D5397B2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Выбор значения параметр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ый алгорит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таточно большим, например равным размеру итерационного пространства в случае использования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locked_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приложение в один поток, замерьте время его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2 раза меньше, запустите приложение по-прежнему в один поток и оцените замедление по отношению к шагу 2. Если приложение замедлилось на 5-10%, это хороший результат. Продолжайте уменьш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тех пор, пока замедление не превысит 5-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D92D-5367-4253-AD40-0EE3A5C49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Выбор значения параметр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йте описанный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сбор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пробные запу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0B1-CD87-4767-AC11-EFE91B5CC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Оценка эффе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сборку приложения в конфигур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программу несколько раз, задавая одни и те же размеры исходных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рекомендуем выполнить приложение несколько раз и выбрать минимальное из полученных времен работы при одних и тех же размерах матрицы и 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фиксируйте результаты экспериментов, рассчитайте ускорение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4B4E-69B2-47AF-ADC9-13DEF52AA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95360" y="1197000"/>
            <a:ext cx="96012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Оценка эффе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06B-1745-4359-9322-C055CB6CC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380880" y="2214720"/>
          <a:ext cx="9215640" cy="3687480"/>
        </p:xfrm>
        <a:graphic>
          <a:graphicData uri="http://schemas.openxmlformats.org/drawingml/2006/table">
            <a:tbl>
              <a:tblPr/>
              <a:tblGrid>
                <a:gridCol w="1071720"/>
                <a:gridCol w="1460520"/>
                <a:gridCol w="2262240"/>
                <a:gridCol w="2209680"/>
                <a:gridCol w="2211480"/>
              </a:tblGrid>
              <a:tr h="134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ес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боты последовательного приложения (сек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боты параллельного приложения (сек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нное значение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in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95360" y="1197000"/>
            <a:ext cx="96012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Оценка эффе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81A-3BAA-4287-A3A7-3C8989BCB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380960" y="2357280"/>
          <a:ext cx="6178680" cy="3353040"/>
        </p:xfrm>
        <a:graphic>
          <a:graphicData uri="http://schemas.openxmlformats.org/drawingml/2006/table">
            <a:tbl>
              <a:tblPr/>
              <a:tblGrid>
                <a:gridCol w="1241640"/>
                <a:gridCol w="2057400"/>
                <a:gridCol w="2879640"/>
              </a:tblGrid>
              <a:tr h="100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ес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параллельного алгорит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95360" y="1197000"/>
            <a:ext cx="96012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Оценка эффе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вычислительные эксперименты для задачи с фиксированными значениями исходных данных (4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00) с различными значения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ите первые два столбца таблицы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желаем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ите последнее поле в таблиц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AA1-A7C2-4D65-AD96-4D78CB1E8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араллельного алгоритм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495360" y="1196640"/>
            <a:ext cx="838656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Оценка эффе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C2B-3A0D-48CA-8F81-2B8B8FEFB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237960" y="2000160"/>
          <a:ext cx="9286920" cy="3353040"/>
        </p:xfrm>
        <a:graphic>
          <a:graphicData uri="http://schemas.openxmlformats.org/drawingml/2006/table">
            <a:tbl>
              <a:tblPr/>
              <a:tblGrid>
                <a:gridCol w="960480"/>
                <a:gridCol w="1683000"/>
                <a:gridCol w="2571480"/>
                <a:gridCol w="2071800"/>
                <a:gridCol w="2000160"/>
              </a:tblGrid>
              <a:tr h="134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ес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rain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боты последовательного приложения (сек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боты параллельного приложения (сек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нное значение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rain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F79-15A9-4F9E-8717-124752CDD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593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2395440"/>
            <a:ext cx="8223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аткий обзор рабо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ая лабораторная работа посвящена изучению распараллеливания циклов на общей памяти с использованием библиоте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 Threading Building Block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материала выполнено на примере популярной задачи для демонстрации возможностей параллельного программирования – задаче матрично-векторного умно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ена классическая постановка задачи, приведен последовательный алгоритм решения, разобрана его последовательная реализа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еден один из возможных алгоритмов распараллеливания, а также его реализация при помощ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9F2-5975-40DF-A60B-6C1122140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трольные вопросы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факторы влияют на время работы прил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обрать приложение, использующее библиотеку TB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нициализировать библиотеку TB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завершить работу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нициализировать библиотеку TBB с определенным числом программных пото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123-1C59-47CF-BF11-8F0108529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организовано распараллеливание цик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иблиоте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фун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итерационное простран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смысл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аботает констру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иблиоте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методы функтора необходимо реализовать при использовании алгорит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брать значение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F35-2B1F-496B-BEB7-E8554791A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9A6-E593-447A-8548-ED3B98028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 для самостоятельной рабо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е созданную реализацию на случай неквадратной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 умножения квадратных матр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 умножения прямоугольных матр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DED-48C2-4872-908E-7824A8F41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гель В.П., Лабутина А.А. Умножение матрицы на вектор // Материалы образовательного комплекса «Параллельное программирование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Нижний Новгород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днев А.А., Сысоев А.В., Мееров И.Б. Библиотека Intel Threading Building Blocks – краткое описание // Материалы образовательного комплекса «Технологии разработки параллельных программ». Нижний Новгород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Threading Building Blocks. Reference Manual. Version 1.6. – Intel Corporation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Threading Building Blocks. Tutorial. Version 1.6.  – Intel Corporation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rew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(2000)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ations of Multithreade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Distributed Programm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.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s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sle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русский перевод Эндрюс Г. Р. Основы многопоточного, параллельного и распределенного программирования. – М.: Издательский дом «Вильямс», 2003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nn, M.J. (2004). Parallel Programming in C with MPI and OpenMP. – New York, NY: McGraw-Hi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еводин В.В., Воеводин Вл.В. Параллельные вычисления. – СПб.: БХВ-Петербург,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ргель В.П. Теория и практика параллельных вычислений. – М.: Интернет-Университет Информационных технологий; БИНОМ. Лаборатория знаний,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мнюгин С.А, Стесик О.Л. Параллельное программирование для многопроцессорных вычислительных систем. – СПб.:БХВ-Петербург,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F42F-19B5-40D5-B1B0-F6DFD3F5F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зин И.С., Жидков И.П. Методы вычислений. – М.: Наука, 1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ерс С. Эффективное использование С++. 35 новых способов улучшить стиль программирования. – СПб: Питер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ерс С. Эффективное использование C++. 55 верных способов улучшить структуру и код ваших программ. – М.: ДМК Пресс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ловская Т.А. C/C++. Программирование на языке высокого уровня. – СПб: Питер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хтер Дж. Windows для профессионалов: создание эффективных Win32 приложений с учетом специфики 64-разрядной версии Windows/Пер. с англ. – 4-е изд. – СПб: Питер; М.: Издательско-торговый дом «Русская редакция»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CAA3-6A9D-4EB0-BC8B-4A5703556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формационные ресурсы сети Интерн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а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сайте корпор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m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29479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сообщества пользовател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[http://threadingbuildingblocks.or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Лаборатории Параллельных информационных технологий НИВЦ МГУ –[http://www.parallel.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OpenMP – [www.openmp.or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B28-4034-427C-B974-71FB35BFC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вторский коллекти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166680" y="1197000"/>
            <a:ext cx="9244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еров Иосиф Борисович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т.н., доцент кафедры Математического обеспечения ЭВМ факультета ВМК Н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соев Александр Владимирови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истент кафедры Математического обеспечения ЭВМ факультета ВМК Н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днев Алексей Александрови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истент кафедры Математического обеспечения ЭВМ факультета ВМК Н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559-26FB-450B-848A-696254495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95360" y="1197000"/>
            <a:ext cx="9029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матриц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мерн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ктор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стоящий 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и – вектор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мер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ый элемент которого есть результат скалярного умнож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строки матриц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им эту строчк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ектор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е количество необходимых скалярных операций есть величин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(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Лабораторная работа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240D-34FE-49A5-8EA6-8230F11DF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1"/>
              <p:cNvSpPr txBox="1"/>
              <p:nvPr/>
            </p:nvSpPr>
            <p:spPr>
              <a:xfrm>
                <a:off x="2595600" y="3143160"/>
                <a:ext cx="4319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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Гергель В.П.</dc:creator>
  <dc:description>Версия 1.2 от 30.12.2005</dc:description>
  <dc:language>en-US</dc:language>
  <cp:lastModifiedBy>Iosif B. Meyerov</cp:lastModifiedBy>
  <dcterms:modified xsi:type="dcterms:W3CDTF">2009-02-03T21:22:44Z</dcterms:modified>
  <cp:revision>1130</cp:revision>
  <dc:subject/>
  <dc:title>Параллельные методы сортировки</dc:title>
</cp:coreProperties>
</file>