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1.xml" ContentType="application/vnd.openxmlformats-officedocument.presentationml.comments+xml"/>
  <Override PartName="/ppt/comments/comment4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Алексей Сиднев" initials="АС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5-14T22:11:39.671000000" idx="1">
    <p:pos x="5401" y="3561"/>
    <p:text>Хм... это писать?</p:text>
  </p:cm>
</p:cmLst>
</file>

<file path=ppt/comments/comment4.xml><?xml version="1.0" encoding="utf-8"?>
<p:cmLst xmlns:p="http://schemas.openxmlformats.org/presentationml/2006/main">
  <p:cm authorId="0" dt="2007-05-15T00:42:20.359000000" idx="2">
    <p:pos x="5445" y="2502"/>
    <p:text/>
  </p:cm>
</p:cmLst>
</file>

<file path=ppt/comments/comment7.xml><?xml version="1.0" encoding="utf-8"?>
<p:cmLst xmlns:p="http://schemas.openxmlformats.org/presentationml/2006/main">
  <p:cm authorId="0" dt="2007-05-15T01:03:08.359000000" idx="3">
    <p:pos x="5746" y="2471"/>
    <p:text>Как отделить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357-6A98-40D0-9D01-1FAFF3C75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751-7B44-4E8A-A0D1-BD103E41B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B91-6589-4F39-8F7C-7DD990A51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4C2-D210-405E-8C79-6A5C05476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AA4-924E-46ED-94B8-37C67470D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A65-A2FD-4B75-BF2E-A9D668548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1B62-A278-4B95-8065-DF3EFB8BD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333-2F87-48DA-AB4A-D6A8CD83C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1973-042A-4C20-8D2D-4469A9DC0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4E48-CA96-49FB-BCEF-C240FBE1C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185-DB61-46A0-B8D4-08E1C9DA4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67BB-B61E-4B4E-9EA5-B8ECD45D4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FD9-946E-4F4F-AFF4-1787C1DE5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2236-FB4E-45E8-A840-B0C5BB9FB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292-CE54-4BE0-A319-8B1972ECA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641-2855-4F3A-A1E1-65AA351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472-305D-4669-99B7-67E669C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13C-3C38-4B81-B783-3A2B75D9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428-0576-45C1-8876-FB323307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018-D4E0-457F-BA18-2EDA282B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D241-3DAA-47D2-A55A-2DAFC7D6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451-4855-4F5A-89AD-9350BD8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88F3-3FEF-4832-A9AF-B3F79B2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A02-E148-458F-BE5E-0B1B3350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0C7-04B0-474E-B9DD-D3025A1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0859-3FFD-446E-BEEC-0FD927A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526-DF65-479E-A921-7EED8D5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3E14-55B6-46CE-9980-9B41BB8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1719-24B8-43BC-9FD2-4F3A84B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355-5FD7-4668-B832-A0B12361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65B9-2A7E-4947-8B54-A3A42DE6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906E-6740-4D58-8224-06D8E4D0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2EB-2789-4A1E-A79B-C1EB274A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071-827C-46F1-B4AD-48B016A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266-1C4F-4E3C-83A8-9692CD67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E1E-E602-4EA8-91D7-AF778F7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B66-7C00-4BC3-A0DC-62237B2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6C2-97FA-4B73-ACA6-320D91B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885-234B-4BE1-A611-B48E6EA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.Новгород,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иблиотека создания параллельных программ для систем с общей память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Intel Threading Building Blocks. Краткое опис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725B-A153-4171-B99A-CCA57B85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8" name="Object 20"/>
          <p:cNvGraphicFramePr/>
          <p:nvPr/>
        </p:nvGraphicFramePr>
        <p:xfrm>
          <a:off x="57240" y="5991120"/>
          <a:ext cx="741240" cy="7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5991120"/>
                    <a:ext cx="741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33"/>
          <p:cNvSpPr/>
          <p:nvPr/>
        </p:nvSpPr>
        <p:spPr>
          <a:xfrm>
            <a:off x="0" y="115920"/>
            <a:ext cx="994572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егородский государственный университе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И.Лобачевского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культет Вычислительной математики и кибернетики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graphicFrame>
        <p:nvGraphicFramePr>
          <p:cNvPr id="47" name="Object 1036"/>
          <p:cNvGraphicFramePr/>
          <p:nvPr/>
        </p:nvGraphicFramePr>
        <p:xfrm>
          <a:off x="128520" y="333360"/>
          <a:ext cx="1028880" cy="10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0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333360"/>
                    <a:ext cx="102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6160" y="3803400"/>
            <a:ext cx="84204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ntel Threading Building Blocks. Краткое опис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28400" y="2205000"/>
            <a:ext cx="90471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иблиотека создания параллельных программ для систем с общей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240160" y="5301000"/>
            <a:ext cx="388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днев А.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ылев А.Л.</a:t>
            </a:r>
            <a:r>
              <a:rPr b="0" lang="ru-RU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федра математического обеспечения ЭВМ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36F-B8EF-464F-B155-2B9A6D0053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рядок использования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215720"/>
            <a:ext cx="95058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е способы иници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ое определение числа пот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task_scheduler_init in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task_scheduler_init init(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оженный запуск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task_scheduler_init ini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k_scheduler_init::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defer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initialize(4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AD2-D0C8-4A1E-90B0-ED17185FED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ция распределения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f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9800" y="1215720"/>
            <a:ext cx="950580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empl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_for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&amp; range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dy&amp; bod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ит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ocked_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ocked_rang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dy — фун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MatrixVectorMultiplication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trix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ult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ws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inSize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(0, rows, grainSize), VectorsMultiplicator(matrix, vector, resultVector, columns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6B0-F0C8-4A07-B253-06E29372BD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тер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ed_r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9800" y="1215720"/>
            <a:ext cx="9505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empl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&gt;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locked_ran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blocked_range(Value begin, Value end, size_type grainsiz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523-A571-49BA-A4F8-26EF42DA2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тер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ed_range&lt;int&gt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ое пространство является одномер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два параметра конструк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дают границы диапазона вычислений в виде полуинтервала [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E62-5787-4F37-856C-960F2FB11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азмер порции в итератор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216080"/>
            <a:ext cx="9505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Siz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blocked_range(Value begin, Value end, size_type grainsiz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pragm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mp parallel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chedule(dynamic, chunk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знач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ческое раз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й под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3FC-8DC0-4E2E-87B4-382E1365B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спериментальный подбор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inSize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00160" y="1216080"/>
            <a:ext cx="95058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значение grainSize больше, чем «размер итерационного пространства».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тите приложение в один поток. Замерьте время.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значение grainSize в 2 раза меньше и посмотрите насколько замедлилось приложение. Если приложение замедлилось на 5-10%, то это хороший результат. Продолжайте уменьшение grainSize до тех пор, пока замедление по отношению к исходной не превысит 5-10%.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34A-2B4A-4E8B-9C8A-D3F5C752A8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спериментальный подбор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inSize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зультаты экспериментов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8880" y="1268280"/>
            <a:ext cx="9001080" cy="37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BC7-1469-4105-B811-DE4FD49394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тор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о содержит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бщие данные должны быть полями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BBD-FCED-479B-9DFA-BCA7FEC52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унктор. Ре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ectorsMultiplicato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rix, *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ector, *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ultVect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pera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(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locked_range&lt;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amp; r 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egin=r.begin(), end=r.en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begin; i!=end; i++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ion(&amp;(matrix[i*columns]), vec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matrix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vec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resultVector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olumns) : matrix(tmatri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(tvector), resultVector(tresultVecto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s(tcolumns) 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9A2-08A4-480A-9477-C140B26A81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работ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f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196640"/>
            <a:ext cx="913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(0, rows, grainSize), VectorsMultiplicator(matrix, vector, resultVector, columns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по одному функтору для каждого пот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 есть не выполненные порции итерационного прост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тору выделяется порция вычислений,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in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по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ничтожение фун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BB3-FC7D-4DD6-BFD7-38BAF6C835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Intel Threading Building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_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_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_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ейн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current_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576-581D-439E-95D7-CA953CB72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5360" y="1197000"/>
          <a:ext cx="8915400" cy="46861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планирования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c, dynami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Size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орц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 со стороны компиля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библиотека (как для разработки так и для исполн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явной иници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ая инициализация библиот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е количество изменений в к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количество изменений в к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прагм и небольшая библиотека фун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число функций и классов (возможность реализовать сво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M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последовательная вер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да требуется библио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ое указание тольк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ое указание общих 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0D4-C29C-4BB5-B958-46A4D84B3E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сновные функции и классы библиоте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rallel_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rallel_re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rallel_s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rallel_s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rallel_w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C7B-B360-45AE-A051-99E6FFEDB3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. Вычисление числа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Rectangle 3"/>
              <p:cNvSpPr txBox="1"/>
              <p:nvPr/>
            </p:nvSpPr>
            <p:spPr>
              <a:xfrm>
                <a:off x="560520" y="1484280"/>
                <a:ext cx="885636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673600" y="216000"/>
                <a:ext cx="863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2360520" y="3397320"/>
                <a:ext cx="52801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9E6-C234-4AFC-91B7-8D65BFC3E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redu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empl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_reduce(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&amp; range, Body&amp; body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BFD-7E3F-487F-954F-D554618772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. Реализация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CalculatePi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,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nSize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ucer R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reduce(blocked_range&lt;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(0, n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nSize), 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.Resul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4.0 / (1.0 + x *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marize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ftPoint,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ightPoint,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ep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  = 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 Step * Left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int = LeftPoint; Point &lt; RightPoint; Point++, x += St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+= f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ep * Su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FE8-C7FD-4396-8D1A-DA4CC9D943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. Ре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duc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ucer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ducer&amp; R, split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Points(R.TotalPoints), MyPi(0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perator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locked_range&lt;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amp; Rang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Pi += Summarize(Range.begin(), Range.end(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 / TotalPoint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oin(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ducer&amp; 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Pi += R.MyP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talPoi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yP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7C7-3655-4A0E-9AD5-526BF423A5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s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AccessIterato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_sort(RandomAccessIterator begin, RandomAccessIterator e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AccessItera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yp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arallel_sort(RandomAccessIterator begin, RandomAccessIterator end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&amp; comp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62F-AC07-4FFF-9162-97C3872297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Класс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_s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"tbb/parallel_sor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&lt;math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amespac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b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 = 1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ortExampl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N; i++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sin((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i] = cos((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sort(a, a +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sort(b, b + N, std::greater&lt;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5D2-8CA6-419F-AE7B-E6DA78B43F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токобезопасные контейнер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current_que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current_hash_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ncurrent_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919-D521-4E6D-94BE-D3E36800DF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итивы синхронизац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to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pin_mut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pin_rw_mutex (reader-writer spin_mute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queuing_mut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queuing_rw_mutex (reader-writer queuing_mute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u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DF6-C33C-4ACD-AF11-6D452F8AD1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ntel Threading Building Block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215720"/>
            <a:ext cx="95058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разработки параллель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ая (скрывает низкоуровневую работу с поток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назначена для систем с общей памя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шаб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ОО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ребует поддержки со стороны компилятора (характерной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1D8-440B-4459-AE82-D0E9B8090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стально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щик потоков (Task Schedu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озможность писать параллельные программы на уровне ядра библиоте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ры времени (tick_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выделения динамической памят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shar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1A4-F382-4AFD-89B0-AEDE091342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lse sharing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Rectangle 3"/>
          <p:cNvGraphicFramePr/>
          <p:nvPr/>
        </p:nvGraphicFramePr>
        <p:xfrm>
          <a:off x="2771640" y="1197000"/>
          <a:ext cx="43610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97000"/>
                    <a:ext cx="43610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826-57EE-43CE-9FE4-5219FA670D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lse sharing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Rectangle 3"/>
          <p:cNvGraphicFramePr/>
          <p:nvPr/>
        </p:nvGraphicFramePr>
        <p:xfrm>
          <a:off x="2771640" y="1197000"/>
          <a:ext cx="43610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97000"/>
                    <a:ext cx="43610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5AC-44AC-4FD8-A65A-B95F3541B2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lse sharing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Rectangle 3"/>
          <p:cNvGraphicFramePr/>
          <p:nvPr/>
        </p:nvGraphicFramePr>
        <p:xfrm>
          <a:off x="2771640" y="1197000"/>
          <a:ext cx="43610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97000"/>
                    <a:ext cx="43610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EFC-A8D7-4765-BD40-A6B1B77BCE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lse sharing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Rectangle 3"/>
          <p:cNvGraphicFramePr/>
          <p:nvPr/>
        </p:nvGraphicFramePr>
        <p:xfrm>
          <a:off x="2771640" y="1197000"/>
          <a:ext cx="43610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97000"/>
                    <a:ext cx="43610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C48-48F8-433D-BA14-8ABAAA1C1D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деление динамической памят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che_aligned_allocator&lt;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calable_allocator&lt;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vector&lt;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cache_aligned_allocator&lt;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EF9-BE5B-4373-B597-4E94526C63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BAF-28B5-491C-ACBB-404943A264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ntel Threading Building Block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9800" y="1216080"/>
            <a:ext cx="9505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платформенная 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личии 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естественным образом писать логические параллельные программы (задача «читатели и писател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F5D-1737-4460-99B4-C7900F913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. Матрично-векторное умнож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81240" y="1268280"/>
          <a:ext cx="7313400" cy="34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268280"/>
                    <a:ext cx="731340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136520" y="5038560"/>
          <a:ext cx="763272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5038560"/>
                    <a:ext cx="7632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950-4C4F-4284-85ED-02C3FD433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nMP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алярн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ectorsMultiplication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v1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v2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ult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0; i&lt;size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 += v1[i] * v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OpenMP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MPMatrixVectorMultiplication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trix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ult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ws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pragm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mp parallel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0; i&lt;row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VectorsMultiplication(&amp;(matrix[i*columns]), vector, colum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F76-85D0-4FB7-A12E-3E78F10C4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OpenMP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MPMatrixVectorMultiplication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trix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ultVector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ws,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pragm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mp parallel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0; i&lt;row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VectorsMultiplication(&amp;(matrix[i*columns]), vector, colum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TBB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BBMatrixVectorMultiplicatio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trix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vector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ultVector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ws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inSize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llel_for(blocked_range&lt;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(0, rows, grainSize), VectorsMultiplicator(matrix, vector, resultVector, columns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97E-8BD2-4219-8132-DBF445D4D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BB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ectorsMultiplicator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rix, *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ector, *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ultVect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um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perato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(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locked_range&lt;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amp; r )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egin=r.begin(), end=r.en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begin; i!=end; i++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ultVector[i] = VectorsMultiplication(&amp;(matrix[i*columns]), vector, colum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sMultiplicator(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matrix,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vector,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tresultVector,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olumns) : matrix(tmatrix), vector(tvector), resultVector(tresultVector), columns(tcolumns)  {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B8F-B914-4BA4-908A-E5FA6A989D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800" y="202680"/>
            <a:ext cx="9082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рядок использования библиотеки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9800" y="1215720"/>
            <a:ext cx="9505800" cy="36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 планировщика пот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"tbb/task_scheduler_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sk_scheduler_init in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9D2-9C6A-46C8-A3A3-4E23EDB50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Алексей Сиднев</dc:creator>
  <dc:description/>
  <dc:language>en-US</dc:language>
  <cp:lastModifiedBy>Алексей Сиднев</cp:lastModifiedBy>
  <dcterms:modified xsi:type="dcterms:W3CDTF">2007-05-16T14:16:45Z</dcterms:modified>
  <cp:revision>994</cp:revision>
  <dc:subject/>
  <dc:title>Библиотека создания параллельных программ для систем с общей памятью</dc:title>
</cp:coreProperties>
</file>