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4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  <p:sldId id="361" r:id="rId120"/>
    <p:sldId id="362" r:id="rId121"/>
    <p:sldId id="363" r:id="rId122"/>
    <p:sldId id="364" r:id="rId123"/>
    <p:sldId id="365" r:id="rId124"/>
    <p:sldId id="366" r:id="rId125"/>
    <p:sldId id="367" r:id="rId126"/>
    <p:sldId id="368" r:id="rId127"/>
    <p:sldId id="369" r:id="rId128"/>
    <p:sldId id="370" r:id="rId129"/>
    <p:sldId id="371" r:id="rId130"/>
    <p:sldId id="372" r:id="rId131"/>
    <p:sldId id="373" r:id="rId132"/>
    <p:sldId id="374" r:id="rId133"/>
    <p:sldId id="375" r:id="rId134"/>
    <p:sldId id="376" r:id="rId135"/>
    <p:sldId id="377" r:id="rId136"/>
    <p:sldId id="378" r:id="rId137"/>
    <p:sldId id="379" r:id="rId138"/>
    <p:sldId id="380" r:id="rId139"/>
    <p:sldId id="381" r:id="rId140"/>
    <p:sldId id="382" r:id="rId141"/>
    <p:sldId id="383" r:id="rId142"/>
    <p:sldId id="384" r:id="rId143"/>
    <p:sldId id="385" r:id="rId144"/>
    <p:sldId id="386" r:id="rId145"/>
    <p:sldId id="387" r:id="rId146"/>
    <p:sldId id="388" r:id="rId147"/>
    <p:sldId id="389" r:id="rId148"/>
    <p:sldId id="390" r:id="rId149"/>
    <p:sldId id="391" r:id="rId150"/>
    <p:sldId id="392" r:id="rId151"/>
    <p:sldId id="393" r:id="rId152"/>
    <p:sldId id="394" r:id="rId153"/>
    <p:sldId id="395" r:id="rId154"/>
    <p:sldId id="396" r:id="rId155"/>
    <p:sldId id="397" r:id="rId156"/>
    <p:sldId id="398" r:id="rId157"/>
    <p:sldId id="399" r:id="rId158"/>
    <p:sldId id="400" r:id="rId159"/>
    <p:sldId id="401" r:id="rId160"/>
    <p:sldId id="402" r:id="rId161"/>
    <p:sldId id="403" r:id="rId162"/>
    <p:sldId id="404" r:id="rId163"/>
    <p:sldId id="405" r:id="rId164"/>
    <p:sldId id="406" r:id="rId165"/>
    <p:sldId id="407" r:id="rId166"/>
    <p:sldId id="408" r:id="rId167"/>
    <p:sldId id="409" r:id="rId168"/>
    <p:sldId id="410" r:id="rId169"/>
    <p:sldId id="411" r:id="rId170"/>
    <p:sldId id="412" r:id="rId171"/>
    <p:sldId id="413" r:id="rId172"/>
    <p:sldId id="414" r:id="rId173"/>
    <p:sldId id="415" r:id="rId174"/>
    <p:sldId id="416" r:id="rId175"/>
    <p:sldId id="417" r:id="rId176"/>
    <p:sldId id="418" r:id="rId177"/>
    <p:sldId id="419" r:id="rId178"/>
    <p:sldId id="420" r:id="rId179"/>
    <p:sldId id="421" r:id="rId180"/>
    <p:sldId id="422" r:id="rId18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slide" Target="slides/slide106.xml"/><Relationship Id="rId121" Type="http://schemas.openxmlformats.org/officeDocument/2006/relationships/slide" Target="slides/slide107.xml"/><Relationship Id="rId122" Type="http://schemas.openxmlformats.org/officeDocument/2006/relationships/slide" Target="slides/slide108.xml"/><Relationship Id="rId123" Type="http://schemas.openxmlformats.org/officeDocument/2006/relationships/slide" Target="slides/slide109.xml"/><Relationship Id="rId124" Type="http://schemas.openxmlformats.org/officeDocument/2006/relationships/slide" Target="slides/slide110.xml"/><Relationship Id="rId125" Type="http://schemas.openxmlformats.org/officeDocument/2006/relationships/slide" Target="slides/slide111.xml"/><Relationship Id="rId126" Type="http://schemas.openxmlformats.org/officeDocument/2006/relationships/slide" Target="slides/slide112.xml"/><Relationship Id="rId127" Type="http://schemas.openxmlformats.org/officeDocument/2006/relationships/slide" Target="slides/slide113.xml"/><Relationship Id="rId128" Type="http://schemas.openxmlformats.org/officeDocument/2006/relationships/slide" Target="slides/slide114.xml"/><Relationship Id="rId129" Type="http://schemas.openxmlformats.org/officeDocument/2006/relationships/slide" Target="slides/slide115.xml"/><Relationship Id="rId130" Type="http://schemas.openxmlformats.org/officeDocument/2006/relationships/slide" Target="slides/slide116.xml"/><Relationship Id="rId131" Type="http://schemas.openxmlformats.org/officeDocument/2006/relationships/slide" Target="slides/slide117.xml"/><Relationship Id="rId132" Type="http://schemas.openxmlformats.org/officeDocument/2006/relationships/slide" Target="slides/slide118.xml"/><Relationship Id="rId133" Type="http://schemas.openxmlformats.org/officeDocument/2006/relationships/slide" Target="slides/slide119.xml"/><Relationship Id="rId134" Type="http://schemas.openxmlformats.org/officeDocument/2006/relationships/slide" Target="slides/slide120.xml"/><Relationship Id="rId135" Type="http://schemas.openxmlformats.org/officeDocument/2006/relationships/slide" Target="slides/slide121.xml"/><Relationship Id="rId136" Type="http://schemas.openxmlformats.org/officeDocument/2006/relationships/slide" Target="slides/slide122.xml"/><Relationship Id="rId137" Type="http://schemas.openxmlformats.org/officeDocument/2006/relationships/slide" Target="slides/slide123.xml"/><Relationship Id="rId138" Type="http://schemas.openxmlformats.org/officeDocument/2006/relationships/slide" Target="slides/slide124.xml"/><Relationship Id="rId139" Type="http://schemas.openxmlformats.org/officeDocument/2006/relationships/slide" Target="slides/slide125.xml"/><Relationship Id="rId140" Type="http://schemas.openxmlformats.org/officeDocument/2006/relationships/slide" Target="slides/slide126.xml"/><Relationship Id="rId141" Type="http://schemas.openxmlformats.org/officeDocument/2006/relationships/slide" Target="slides/slide127.xml"/><Relationship Id="rId142" Type="http://schemas.openxmlformats.org/officeDocument/2006/relationships/slide" Target="slides/slide128.xml"/><Relationship Id="rId143" Type="http://schemas.openxmlformats.org/officeDocument/2006/relationships/slide" Target="slides/slide129.xml"/><Relationship Id="rId144" Type="http://schemas.openxmlformats.org/officeDocument/2006/relationships/slide" Target="slides/slide130.xml"/><Relationship Id="rId145" Type="http://schemas.openxmlformats.org/officeDocument/2006/relationships/slide" Target="slides/slide131.xml"/><Relationship Id="rId146" Type="http://schemas.openxmlformats.org/officeDocument/2006/relationships/slide" Target="slides/slide132.xml"/><Relationship Id="rId147" Type="http://schemas.openxmlformats.org/officeDocument/2006/relationships/slide" Target="slides/slide133.xml"/><Relationship Id="rId148" Type="http://schemas.openxmlformats.org/officeDocument/2006/relationships/slide" Target="slides/slide134.xml"/><Relationship Id="rId149" Type="http://schemas.openxmlformats.org/officeDocument/2006/relationships/slide" Target="slides/slide135.xml"/><Relationship Id="rId150" Type="http://schemas.openxmlformats.org/officeDocument/2006/relationships/slide" Target="slides/slide136.xml"/><Relationship Id="rId151" Type="http://schemas.openxmlformats.org/officeDocument/2006/relationships/slide" Target="slides/slide137.xml"/><Relationship Id="rId152" Type="http://schemas.openxmlformats.org/officeDocument/2006/relationships/slide" Target="slides/slide138.xml"/><Relationship Id="rId153" Type="http://schemas.openxmlformats.org/officeDocument/2006/relationships/slide" Target="slides/slide139.xml"/><Relationship Id="rId154" Type="http://schemas.openxmlformats.org/officeDocument/2006/relationships/slide" Target="slides/slide140.xml"/><Relationship Id="rId155" Type="http://schemas.openxmlformats.org/officeDocument/2006/relationships/slide" Target="slides/slide141.xml"/><Relationship Id="rId156" Type="http://schemas.openxmlformats.org/officeDocument/2006/relationships/slide" Target="slides/slide142.xml"/><Relationship Id="rId157" Type="http://schemas.openxmlformats.org/officeDocument/2006/relationships/slide" Target="slides/slide143.xml"/><Relationship Id="rId158" Type="http://schemas.openxmlformats.org/officeDocument/2006/relationships/slide" Target="slides/slide144.xml"/><Relationship Id="rId159" Type="http://schemas.openxmlformats.org/officeDocument/2006/relationships/slide" Target="slides/slide145.xml"/><Relationship Id="rId160" Type="http://schemas.openxmlformats.org/officeDocument/2006/relationships/slide" Target="slides/slide146.xml"/><Relationship Id="rId161" Type="http://schemas.openxmlformats.org/officeDocument/2006/relationships/slide" Target="slides/slide147.xml"/><Relationship Id="rId162" Type="http://schemas.openxmlformats.org/officeDocument/2006/relationships/slide" Target="slides/slide148.xml"/><Relationship Id="rId163" Type="http://schemas.openxmlformats.org/officeDocument/2006/relationships/slide" Target="slides/slide149.xml"/><Relationship Id="rId164" Type="http://schemas.openxmlformats.org/officeDocument/2006/relationships/slide" Target="slides/slide150.xml"/><Relationship Id="rId165" Type="http://schemas.openxmlformats.org/officeDocument/2006/relationships/slide" Target="slides/slide151.xml"/><Relationship Id="rId166" Type="http://schemas.openxmlformats.org/officeDocument/2006/relationships/slide" Target="slides/slide152.xml"/><Relationship Id="rId167" Type="http://schemas.openxmlformats.org/officeDocument/2006/relationships/slide" Target="slides/slide153.xml"/><Relationship Id="rId168" Type="http://schemas.openxmlformats.org/officeDocument/2006/relationships/slide" Target="slides/slide154.xml"/><Relationship Id="rId169" Type="http://schemas.openxmlformats.org/officeDocument/2006/relationships/slide" Target="slides/slide155.xml"/><Relationship Id="rId170" Type="http://schemas.openxmlformats.org/officeDocument/2006/relationships/slide" Target="slides/slide156.xml"/><Relationship Id="rId171" Type="http://schemas.openxmlformats.org/officeDocument/2006/relationships/slide" Target="slides/slide157.xml"/><Relationship Id="rId172" Type="http://schemas.openxmlformats.org/officeDocument/2006/relationships/slide" Target="slides/slide158.xml"/><Relationship Id="rId173" Type="http://schemas.openxmlformats.org/officeDocument/2006/relationships/slide" Target="slides/slide159.xml"/><Relationship Id="rId174" Type="http://schemas.openxmlformats.org/officeDocument/2006/relationships/slide" Target="slides/slide160.xml"/><Relationship Id="rId175" Type="http://schemas.openxmlformats.org/officeDocument/2006/relationships/slide" Target="slides/slide161.xml"/><Relationship Id="rId176" Type="http://schemas.openxmlformats.org/officeDocument/2006/relationships/slide" Target="slides/slide162.xml"/><Relationship Id="rId177" Type="http://schemas.openxmlformats.org/officeDocument/2006/relationships/slide" Target="slides/slide163.xml"/><Relationship Id="rId178" Type="http://schemas.openxmlformats.org/officeDocument/2006/relationships/slide" Target="slides/slide164.xml"/><Relationship Id="rId179" Type="http://schemas.openxmlformats.org/officeDocument/2006/relationships/slide" Target="slides/slide165.xml"/><Relationship Id="rId180" Type="http://schemas.openxmlformats.org/officeDocument/2006/relationships/slide" Target="slides/slide166.xml"/><Relationship Id="rId181" Type="http://schemas.openxmlformats.org/officeDocument/2006/relationships/slide" Target="slides/slide167.xml"/><Relationship Id="rId1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6AAF-94A8-4D00-A06F-72520B6F2A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72AE-0BE3-4584-8FEE-8637C19389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BB8E-122B-4B9F-9DBA-3D10C4C5FD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E2D6-2FB3-4A5B-A96B-F34E95194E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6CEC-70C5-4CD3-8841-DC2930C43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4F8-F67B-42C6-AEF8-7BF0A0A3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854-10A6-4DD9-A1FA-70518582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65B65-4338-406A-8835-36A9A1D8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85DE0-A622-4245-A0D1-99358668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B9409-B6A9-4606-9513-285837BA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52F61-C32F-433A-99D2-C969B229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598AA-30E2-44E1-AD98-D49855F6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380D5-BBB5-491F-8C19-5F398AB2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76DD1-4A47-4E04-8A53-C34418FF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871F3-2D45-431D-BD35-6062A867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C072C-5E4E-4E08-BBC2-0B2C32FF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58495-B754-401A-8827-C0AA8BE8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43B-CF75-42AD-9E06-51411800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1C186-A97F-4BE1-AAF0-5D409CBA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935BC-9936-4052-851D-E647391B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2FEA7-9326-48F1-B0D6-C9B0729B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6FD38-02A6-4E3D-89F9-029F7E29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E120B-A8A9-45BE-A0DA-5AA1598B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BF83C-E59B-4EBB-8A0E-504D73A7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20BED-1E78-4BF4-A0AA-7C46F129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AC809-B0A6-4519-8BF9-80EE8171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111B0-4F04-48B7-A18E-AA703F44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5B502-D032-4376-A5E3-CD6E49A0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BC2-EEB7-4D0C-BAEF-AD956D57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F012E-4EA8-409C-8A7B-5FDD3A03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F032B-253A-4402-952A-64F25416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D8824-04A2-4AFE-A47D-EEE07AE4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4DF8A-C03D-4497-95F5-1457F9D2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612BB-4FFA-478E-84DE-8B6D9247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4199F-3E18-40EC-BBEA-936FCD62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B4D30-4FFF-4483-B7A2-838CA47A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3534F-33E6-4B4D-82A5-4B640D6A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5BAAE-C26B-4B6F-B041-F3A55A75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12C8F-EF5C-44CC-AFD6-B0CDC1EE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E0F3-4223-4BAE-B415-FEA9E14B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69FAE-A64E-449E-AFF5-25E6F674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86938-672B-4DDB-8AA1-E70D0D72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D095F-72D4-4170-B9C2-F540868B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06726-3A8A-4188-B373-63F0E5DB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046B9-889D-4111-8333-FCBC4295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2E937-D7E4-49A3-9BE3-94CC7788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FB261-4BB8-4707-A46F-B4B2736F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DE42E-2332-4120-88DB-B82004CF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CB3C9-FEED-4784-9526-C7DD810F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CC794-C643-4E63-AC5B-EC997D60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8C5F-F847-455C-8EC9-1373D516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FDB47-5717-44E2-B91B-E4AB65F3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B1278-2136-4F70-AE9D-9974B941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AAD25-9552-4F5E-A1A9-1A704755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DC0D9-BA94-4E90-841F-AB08BC72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228A2-2529-4D7C-BE86-F94D93AF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F534-40A4-42D8-9DCD-72666527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1AC0-E835-4369-92E2-D2EE5AFC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D32E-A7E1-49A5-AC91-52BBDA3E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1287-7171-4379-A100-1B46DCEA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3607-A66A-4996-BED5-B244F289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12E-E853-46DF-A1AA-1CCD657C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25FB-FF34-4D9B-99D8-7136919F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E823-33AC-4C3E-9A19-F244C644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0406-9DD7-4454-B45F-21B11C22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DF5D-6117-48F0-BCFD-CABB2702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A5DB-3B93-423E-8630-2D2A881E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C64CC-4B95-4827-B65D-08C4C442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E9CFE-86D4-4054-8E0D-AD7EAE13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5D1F-CA81-4AC0-8406-CE00C7E6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DF69-D401-4F0E-9238-95EAE080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BC52D-D539-4D91-BAE9-DD6EF7F0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39E-5FC9-4971-826F-4C366789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03A77-6779-4D2C-B9D9-4678EE2C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0B631-5820-4646-B48B-7077F8AF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0B33-0FB6-4BFF-9CF6-C43EC05B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79A74-597F-42A4-A84D-E630EF9F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A389D-9206-437F-BBE1-99498C50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EB138-34D0-4AC4-AA19-FB6A7223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9E12-E9AC-4308-8D92-3B9BBE5A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9F3DA-693D-4508-9169-B2A40389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B1314-1498-4C67-B880-8D8034AC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BBD80-A298-4EB0-B94D-14875393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61F-E4F1-499F-8B1D-ED805302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98E73-CC09-4705-8355-0FC0ECF9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C59E7-1418-4908-9D31-16DEE28A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C4F06-D0BC-4B7E-831E-7D56C486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FA752-099F-4EC8-B8C0-2A163969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A5A41-F3E1-4D22-9448-16AF214C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1B968-D709-4336-AB49-BE8E7B7E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477B7-84EB-48DD-937A-37B3A499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932B6-E37A-4A0E-82F2-46F31D4A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AF647-55F6-492E-99B3-1B444A82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06E16-5AA8-4990-9C12-F0F93CC7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6A4-5721-49AC-9F20-1857F212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B5BAF-D0A4-47C5-9404-ECE4E5B9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C8305-7884-40BE-8D7A-858A79CE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6436C-B143-4C47-8617-1A9CE4D1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105DD-5DCB-4502-907B-17C7CF00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82283-E23B-4BC9-800D-B102AB58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3C085-82CE-4CF7-9182-60C42A64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E5981-75E9-455C-B077-D5FE0206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73BDD-E955-4397-9EE1-159618CD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4F9C7-2F9F-439E-8B88-317CF4D5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778E2-CEF9-428C-9EC2-A1B61C8C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07E-1E64-4329-A527-5E8464DE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DDE0A-3629-4F54-A08E-7F92DE9F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7141A-A85B-46C4-A376-6744510F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4A814-C83D-48B2-B298-37D1E10C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0AF44-C561-46D2-8C4E-634EAD06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375E0-5154-4723-BE8C-B2470B8B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49AED-01ED-4790-9368-862C1859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1EF4E-884F-43A4-BF3B-0DE68D07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C95ED-9A14-4A78-9915-CBB17957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0E14F-FDCD-4010-8074-8A38A7DE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A5AC4-7474-4E2C-A226-D744CDF5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B08-6522-463A-85A7-B8DC3B0C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60D5B-B961-45CF-9971-93A03EFB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26BEC-B07F-4884-BDD0-64CE40B9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1310B-B405-4791-ABEB-4360E983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ECDF9-4325-4E9F-9267-98BB565E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952AB-0B27-4900-8DD8-0F2EE37B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7F7E1-53B9-443F-AD7B-AAD6D43C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6D603-13FE-4A48-8405-889F43C8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32F6D-F030-49EC-8433-EA6FC61A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C02C8-753B-4BB4-BADA-078D0DB8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F85A5-30C9-4B64-817E-283BA7C0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F65-8549-4C8C-AF63-58691E01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061A9-FD6D-4FF3-8891-B59ED79B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7E88E-BE12-4A4A-A206-D52339E4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C8C66-B484-432A-AFB8-D5CD4808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A4ADB-5BC7-4127-AA33-D91155C1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11F04-2054-46BB-B106-6697EE48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9D5D3-0FD0-4659-9056-98DB4828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630AF-67E4-42E9-9828-A979482E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C1499-A917-4BD6-AE0C-2DA5CD20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8A777-6C71-4EF1-8C40-5B3CDF55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57A2E-04C0-4E1A-8761-91D6AE4B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915-C55D-4E8F-BDFB-26A9D6AB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D86DC-D5C0-481D-B5CF-5AC45720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AEDDD-DDC5-4B17-AFC5-55FC215F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154AF-F259-461E-A95C-1A3630D7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22C5D-19EA-4EC8-A66B-140F2902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E2960-57FB-4440-BF7A-45DA82FC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DA055-6F4F-43C6-BC49-2D1B1F89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60C59-D972-48AC-AA6B-CECAE365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4BE21-1A2A-4AF7-A0F7-DDBF764C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65769-2D53-4296-86E5-90A6E330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484BE-2E70-4029-A799-A66C848F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9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8628-7C79-4B78-B347-8495BA865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8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415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6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Краткое опис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13CA-955F-4EF2-B449-DDE20A1296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59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60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461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2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Краткое опис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948A-C3AB-4763-94EF-5CE61996FB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5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507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8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Краткое опис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DB71-F689-4462-83B5-04C5C82A8B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33"/>
          <p:cNvSpPr/>
          <p:nvPr/>
        </p:nvSpPr>
        <p:spPr>
          <a:xfrm>
            <a:off x="0" y="115920"/>
            <a:ext cx="994572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жегородский государственный университет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И.Лобачевского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акультет Вычислительной математики и кибернетики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47" name="Object 1036"/>
          <p:cNvGraphicFramePr/>
          <p:nvPr/>
        </p:nvGraphicFramePr>
        <p:xfrm>
          <a:off x="128520" y="333360"/>
          <a:ext cx="1028880" cy="10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03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20" y="333360"/>
                    <a:ext cx="10288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184E-062E-42E0-B276-224CB172B8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93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E31D-FA1E-4940-9FCB-F1266DA0B2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139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0004-942B-4587-9DFD-6C466DD2D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185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Краткое опис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E525-7061-4669-A6BA-E42FA983DA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29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30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231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Краткое опис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5FB7-BED3-4972-8C8C-37047F91B2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6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277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67D3-009A-46CA-B695-C18FFAC3E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323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95AD-82E5-46E9-80B5-EDC5C5D225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8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369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7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Intel Thread Checker. Краткое опис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1B7E-4A5A-4FB0-9CA8-D88AD7D606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76160" y="3575160"/>
            <a:ext cx="8420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блиоте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 Threading Building Block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ткое опис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28400" y="2205000"/>
            <a:ext cx="904716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4024440" y="5645520"/>
            <a:ext cx="58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еров И.Б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соев А.В., Сиднев А.А.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федра математического обеспечения ЭВМ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ициализация и завершение библиотеки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спользования возможностей TBB по распараллеливанию вычислений необходимо иметь хотя бы один активный (инициализированный) экземпляр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т класс предназначен для создания потоков и внутренних структур, необходимых планировщику потоков для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ет находиться в одном из двух состояний: активном или неактив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2A89-701E-4FF1-B124-3F59097850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выполнения логической задач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того как планировщик потоков назначает каждому потоку задачу на выполнение, происходит следующ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мет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execu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жидание его завер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для задачи не был вызван один из методов вид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::recycle_∗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ecycle_as_child_of, recycle_to_reexecute, recycle_as_continuation, recycle_as_safe_continuatio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ол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л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rent-&gt;refcou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меньшается на единицу. Если пол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rent-&gt;refcou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новится равным 0, то задач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мещается в пул готовых к вы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зов деструктора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бождение памяти, занимаемой задач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для задачи был вызван один из метод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recycle_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задача повторно добавляется в пул готовых к выполн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4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4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2081-9708-41AE-856E-4A13847ABC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ние и уничтожение логических задач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задачи должно осуществляться только с помощью операто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ерегруженного в библиотеке TB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ew(task::allocate_root()) 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полняет создание «главной» задачи тип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 следующими атрибута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NULL, depth, 0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ля запуска этого типа задач необходимо использовать мет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ask::spawn_root_and_wa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ew(this.allocate_child()) 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ыполняет создание подчиненной задачи тип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задач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 следующими атрибута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this, depth + 1, 0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Атрибуты задач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this (parent, depth, refcoun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втоматически изменяются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parent, depth, refcount + 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4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4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DC20-76C2-4EA1-BC1F-F1ACF0ABF4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ние и уничтожение логических задач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ие задачи должно осуществляться только с помощью оператор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перегруженного в библиотеке TBB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new(this.allocate_continuation()) T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выполняет создание задачи того же уровня, что и задач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Атрибуты задач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his (parent, depth, refcount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втоматически изменяются н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NULL, depth, refcount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новая задача создается со следующими атрибутам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parent, depth, 0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new(this.task::allocate_additional_child_of(parent)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выполняет создание подчиненной задачи для произвольной задачи, указанной в качестве параметра. Атрибуты задач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parent (grandparent, depth, refcount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втоматически изменяются н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grandparent, depth, refcount + 1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новая задача создается со следующими атрибутам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parent, depth + 1, 0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5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5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DBBB-5F43-4912-B1D7-721514D7B6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ние и уничтожение логических задач. Приме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 создания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чтожение задачи осуществляется автоматически с помощью виртуального деструк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уничтожить задачу вручную с помощью мет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destro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ри этом пол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fcou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ничтожаемой задачи должно быть равно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5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5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3327-9065-4234-90A8-C324E5D9D7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59" name="Rectangle 1"/>
          <p:cNvSpPr/>
          <p:nvPr/>
        </p:nvSpPr>
        <p:spPr>
          <a:xfrm>
            <a:off x="1019520" y="1649520"/>
            <a:ext cx="6269400" cy="1649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* MyTask::execute(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...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Task &amp;t = *new (allocate_child()) MyTask(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...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60" name="Rectangle 1"/>
          <p:cNvSpPr/>
          <p:nvPr/>
        </p:nvSpPr>
        <p:spPr>
          <a:xfrm>
            <a:off x="984960" y="4789800"/>
            <a:ext cx="432612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task::destroy(task&amp; victim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стояние логической задачи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ый момент времени задача может находиться в одном из 5 состоя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задачи изменяется при вызове методов библиотеки или в результате выполнения определенных действий (например, завершение выполнения мето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ask::execu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иблиоте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ализован мет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ask::sta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возвращает текущее состояние задачи, для которой он был вызван. Данная информация может оказаться полезной при отладке при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6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6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34F5-70B6-45CB-B5CA-9994DDAD51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66" name="Rectangle 1"/>
          <p:cNvSpPr/>
          <p:nvPr/>
        </p:nvSpPr>
        <p:spPr>
          <a:xfrm>
            <a:off x="977760" y="5146920"/>
            <a:ext cx="328968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_type task::state(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стояние логической задач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числимый тип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state_typ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ет принимать одно из следующих значений, которые отражают текущее состояние выполнения 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llocate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дача только что была создана или был вызван один из методов ви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recycle_*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ycle_as_child_of, recycle_to_reexecute, recycle_as_continuation, recycle_as_safe_continuation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дача находится в пуле готовых к выполнению задач или в процессе перемещения в/из не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xecut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дача выполняется и будет уничтожена после завершения мет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execu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ree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дача находится во внутреннем списке библиотеки свободных задач или в процессе перемещения в/из не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execu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дача выполняется и будет повторно запущена после завершения мет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execu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7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7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D8F4-B571-4CCA-B947-0267E55889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тейнер задач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удобства работы с набором задач библиотекой поддерживается кла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task_l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т класс фактически представляет собой контейнер задач. Кла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task_l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держит два основных мето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ask_list::push_back(task&amp; task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обавляет задачу в конец спис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ask&amp; task_list::pop_front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звлекает задачу из начала спи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7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7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6C34-4EF4-4A7F-99EE-0FAF4111C6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ланирование выполнения задач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управления планированием и синхронизации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task::set_ref_count(int coun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ет значение по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void task::spawn(task&amp; chil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обавляет задачу в очередь готовых к выполнению и возвращает управление программному коду, который вызвал этот метод. Задач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hil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ны принадлежать потоку, который вызывает метод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paw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л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hild.refcou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но быть больше нуля. Перед вызовом мет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paw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обходимо с помощью мет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set_ref_cou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тановить число подчиненных задач у задач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8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8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9415-33B8-4463-9E89-CA542F122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ланирование выполнения задач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управления планированием и синхронизации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void task::wait_for_all(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жидает завершения всех подчиненных задач. Пол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fcou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лжно быть равно числу подчиненных задач +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ичный пример использования рассмотренных мет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8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8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8C95-7683-466F-B675-03A7CC8682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87" name="Rectangle 1"/>
          <p:cNvSpPr/>
          <p:nvPr/>
        </p:nvSpPr>
        <p:spPr>
          <a:xfrm>
            <a:off x="999000" y="3795840"/>
            <a:ext cx="6269400" cy="24267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Task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ecute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...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Task &amp;t = *new (allocate_child()) MyTask(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_ref_count(ref_count() + 2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awn(t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ait_for_all(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...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ланирование выполнения задач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управления планированием и синхронизации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void task::spawn (task_list&amp; lis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обавляет список задач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ул готовых к выполнению и возвращает управление программному коду, который вызвал этот метод. Алгоритм работы данного метода совпадает с последовательным вызовом мет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paw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й задачи из списка, но имеет более эффективную реализацию. Все задачи из спис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дач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ны принадлежать потоку, который вызывает метод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spaw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л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hild.refcou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но быть больше нуля для всех задач из списка. Значение по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ept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 всех задач из списка должно быть одинак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9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9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8E87-2A3E-48FA-85CB-03A3EF71C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ициализация и завершение библиотеки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ировать экземпляр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двумя способа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средственно при создании объект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task_scheduler_in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и этом число создаваемых потоков может определяться автоматически библиотекой или задаваться вручную пользовател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оженной инициализацией при помощи вызова мето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ask_scheduler_init::initial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1CC8-68D1-4E9E-8CF7-C51291A4DC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ланирование выполнения задач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управления планированием и синхронизации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void task::spawn_and_wait_for_all(task&amp; chil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обавляет задачу в очередь готовых к выполнению и ожидает завершения всех подчиненных задач. Является аналогом последовательного вызова метод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paw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ait_for_al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имеет более эффективную реализ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void task::spawn_and_wait_for_all(task_list&amp; list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добавляет список задач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чередь готовых к выполнению и ожидает завершения всех подчиненных задач. Является аналогом последовательного вызова метод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paw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ait_for_al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имеет более эффективную реализ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9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9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188B-7DDC-40D7-90D6-93C69BA6C0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ланирование выполнения задач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управления планированием и синхронизации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c void task::spawn_root_and_wait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&amp; ro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т запуск задач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ь для задачи должна быть выделена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allocate_root(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c void task::spawn_root_and_wait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_list&amp; root_li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т параллель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озмо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уск каждой задачи из списк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t_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метод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wn_root_and_wa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ичный пример создания и запус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0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0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9A20-2DC9-4087-B5D1-35F3BFAEA0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03" name="Rectangle 1"/>
          <p:cNvSpPr/>
          <p:nvPr/>
        </p:nvSpPr>
        <p:spPr>
          <a:xfrm>
            <a:off x="1004040" y="4435560"/>
            <a:ext cx="6917040" cy="1649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in {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...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Task &amp;t = *new (task::allocate_root()) MyTask(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::spawn_root_and_wait(t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вторное использование задач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предоставляет набор методов, которые позволяют повторно использовать задачи для вычислений, что способствует многократному использованию, выделенных ресурсов и уменьшению накладных расх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повторного использования зада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void task::recycle_as_continuation(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изменяет состояние задачи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llocate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таким образом после завершения мет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execu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дача не уничтожается, а остается в пуле готовых к выполнению. Метод должен быть вызван в теле мет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execu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начение по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fcou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лжно быть равно числу подчиненных задач и после того как метод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execu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кончит выполнение должно быть больше нуля (все потомки не должны закончить выполнение). Если это обеспечить нельзя, то необходимо использовать метод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recycle_as_safe_continu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0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0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1DFB-5F4A-4691-999D-6DDD2836AC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вторное использование задач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повторного использования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task::recycle_as_safe_continuation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огичен по функциональности метод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::recycle_as_contin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по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fcou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но быть равно числу подчиненных задач + 1. Метод должен быть вызван в теле мет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execu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void task::recycle_to_reexecute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пускает текущую задачу на повторное выполнение после завершение выполнения мет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execu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Метод должен быть вызван в теле мет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execu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Метод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ask::execut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жен вернуть указатель на другую (не равну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1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1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8EAB-5BB3-48A5-91E6-356025773C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вторное использование задач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повторного использования зада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d task::recycle_as_child_of(task&amp; paren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авливает текущую задачу подчиненной дл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завершения метод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ask::execu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дача не уничтожается, а остается в пуле готовых к выполнению. Этот метод должен быть вызван в теле метод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ask::execu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 использования мет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ycle_as_child_o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1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1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A74E-62C5-46CD-AD83-9581AE5BB0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19" name="Rectangle 1"/>
          <p:cNvSpPr/>
          <p:nvPr/>
        </p:nvSpPr>
        <p:spPr>
          <a:xfrm>
            <a:off x="1011240" y="3580920"/>
            <a:ext cx="7953120" cy="2167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* MyTask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ecute(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...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ty_task&amp; t = *new( allocate_continuation()) empty_task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ycle_as_child_of(t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.set_ref_count(1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ланирование использования задач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х случаях, когда необходимо изменить алгоритм планирования может оказаться полезным изменять значение пол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ept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ля этого используются следующие мет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epth_type task::depth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озвращает текущее значение пол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ept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oid task::set_depth(depth_type new_depth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станавливает значение пол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ept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ew_dept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ew_dept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но быть неотрицатель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oid task::add_to_depth(int delta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станавливает значение пол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ept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epth+del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epth+del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но быть неотрица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2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2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FD03-6832-4817-B138-9A20A1317B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тветствие потоков и логических задач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tas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обеспечивают связь задач и потоков, на которых они выполн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tatic task&amp; task::self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озвращает задачу, принадлежащую текущему пото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ask* task::parent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озвращает значение пол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ля задач, созданных с помощь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ask::allocate_root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чение пол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определ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ool task::is_stolen_task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озвраща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у задач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чение пол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совпадаю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2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2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DDC5-CFCA-4D71-B61B-E76F55C83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параллеливание рекурси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достоинств задач является, то, что с их помощью можно достаточно легко реализовывать параллельные версии рекурсивных вычисл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емонстрируем это на примере «задачи о ферзях»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дана шахматная доска размер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ферзь «бьет» все фигуры, расположенные по горизонтали, вертикали и обеим диагонал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подсчитать число возможных вариантов размещ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ерзей на этой доске так, чтобы они не «били» друг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3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3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695A-5B49-41A7-BBC8-87375A602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о ферзях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я класса логическ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3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3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9FD7-2BED-4B99-8DF8-E4753FE6FB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40" name="Rectangle 1"/>
          <p:cNvSpPr/>
          <p:nvPr/>
        </p:nvSpPr>
        <p:spPr>
          <a:xfrm>
            <a:off x="1015920" y="1693800"/>
            <a:ext cx="8601120" cy="4500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Backtracker: public task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: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current_vector&lt;int&gt; placement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азмещение ферзей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Ферзь placement[i] расположен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на i-ой вертикале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position;              // Позиция ферзя для проверки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 int size;            //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азмер поля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spin_mutex myMutex; // Мьютекс для блокировки доступа к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еременной count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: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int count;          // Число вариантов размещения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ферзей на доске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о ферзях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тор и мет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4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4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09D9-3C10-4696-B292-FBF10893B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46" name="Rectangle 1"/>
          <p:cNvSpPr/>
          <p:nvPr/>
        </p:nvSpPr>
        <p:spPr>
          <a:xfrm>
            <a:off x="983520" y="1707840"/>
            <a:ext cx="8715240" cy="45694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Backtracker: public task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cktracker(concurrent_vector&lt;int&gt; &amp;t_placement, int t_position, int t_size): 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cement(t_placement), position(t_position), size(t_size)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}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* execute()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nt i = 0; i &lt; placement.size(); i++)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Проверка горизонтальных и диагональных траекторий на пересечение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нового ферзя с уже стоящими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(placement[i] == position) || 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position - placement.size()) == (placement[i] - i) || 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position + placement.size()) == (placement[i] + i))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NULL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cement.push_back(position); //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зицию можно добавить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…   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ициализация и завершение библиотеки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отип конструктора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task_scheduler_in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ны следующие варианты значений парамет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umber_of_thread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ask_scheduler_init::automa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е положительное чис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_scheduler_init::deferre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9BBA-9888-43BC-82FB-4BEE0267A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4" name="Rectangle 1"/>
          <p:cNvSpPr/>
          <p:nvPr/>
        </p:nvSpPr>
        <p:spPr>
          <a:xfrm>
            <a:off x="1093680" y="1717920"/>
            <a:ext cx="730548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_scheduler_init(int number_of_threads = automatic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о ферзя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5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5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C65F-A32A-4873-8507-84B885534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52" name="Rectangle 1"/>
          <p:cNvSpPr/>
          <p:nvPr/>
        </p:nvSpPr>
        <p:spPr>
          <a:xfrm>
            <a:off x="952560" y="1707840"/>
            <a:ext cx="8561160" cy="45694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…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placement.size() == size)   //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асстановка ферзей на всем поле получена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in_mutex::scoped_lock lock(myMutex)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ty_task&amp; c = *new(allocate_continuation()) empty_task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ycle_as_child_of(c);    c.set_ref_count(size)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nt i = 0; i &lt; size - 1; i++)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cktracker&amp; bt = 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new (c.allocate_child()) Backtracker(placement, i, size)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.spawn(bt)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sition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 1; // Используем текущую "задачу" в очередной итерации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this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NULL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9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5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5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4FD1-D4E6-4DE5-9F3F-01AA94D8E9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1256" name="Прямоугольник 6" descr=""/>
          <p:cNvPicPr/>
          <p:nvPr/>
        </p:nvPicPr>
        <p:blipFill>
          <a:blip r:embed="rId1"/>
          <a:stretch/>
        </p:blipFill>
        <p:spPr>
          <a:xfrm>
            <a:off x="804960" y="2395440"/>
            <a:ext cx="82231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й из основных задач при написании параллельных программ является задача синхрон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работе приложения в несколько потоков могут возникать ситуации, при которых один поток «ожидает» данных (результатов вычислений) от друг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случае появляется потребность в синхронизации выполнения пото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6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6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91F2-3FD0-4E29-9878-7DC3C0FC4C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онки данных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типичную ситуацию, в которой необходима синхронизация, называемую «гонкой данных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есть общая переменн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оступная нескольким потокам для чтения и запис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поток должен выполнить инкремент этой переменной (то есть выполнить к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ata+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этого процессору необходимо выполнить три операции: чтение значения переменной из оперативной памяти в регистр процессора, инкремент регистра, запись посчитанного значения в переменную (оперативную памя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6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6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3668-84EE-45F0-91F1-FFEA3005F1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онки данных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”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жидаемая реализация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ачала поток 0 выполняет чтение переменной, инкремент регистра и запись его значения в переменную, а потом поток 1 выполнит ту же последовательность действ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после завершения работы приложения значение общей переменной будет равн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ata+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7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7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C3D7-B5EB-49D6-8E00-804DA67661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1273" name="Object 1"/>
          <p:cNvGraphicFramePr/>
          <p:nvPr/>
        </p:nvGraphicFramePr>
        <p:xfrm>
          <a:off x="1285920" y="2928960"/>
          <a:ext cx="7381800" cy="33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928960"/>
                    <a:ext cx="7381800" cy="33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ок 0 выполняет чтение значения переменной в регистр и инкремент этого регистра, и в этот же момент времени поток 1 выполняет чтение переменн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.к. для каждого потока имеется свой набор регистров, то поток 0 продолжит выполнение и запишет в переменную знач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ata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онки данных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”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ее ожидаемая реализация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7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7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30FB-36A8-4045-B67D-97B9D7547E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80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81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1282" name="Object 6"/>
          <p:cNvGraphicFramePr/>
          <p:nvPr/>
        </p:nvGraphicFramePr>
        <p:xfrm>
          <a:off x="1380960" y="3103560"/>
          <a:ext cx="720108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0960" y="3103560"/>
                    <a:ext cx="720108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онки данных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”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ее ожидаемая реализация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ок 1 также выполнит инкремент регистра (значение переменн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ыло прочитано из оперативной памяти ранее до записи потоком 0 знач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ata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сохранит знач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ata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вое) в общую переменн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после завершения работы приложения значение переменной будет равн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ata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8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8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5123-159B-4016-87A8-1C0D594206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1290" name="Object 1"/>
          <p:cNvGraphicFramePr/>
          <p:nvPr/>
        </p:nvGraphicFramePr>
        <p:xfrm>
          <a:off x="1380960" y="3103560"/>
          <a:ext cx="720108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0960" y="3103560"/>
                    <a:ext cx="720108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онки данных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 реализации могут наблюдаться как на многоядерной (многопроцессорной) системе, так и на однопроцессорной, одноядер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в зависимости от порядка выполнения команд результат работы приложения может меня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ет необходимость в механизме взаимоисключения, обеспечивающем синхронизацию выполнения потоков, с помощью которого можно было бы обеспечить выполнение части кода не более, чем одним потоком в каждый момент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9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9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7988-87EC-4B1B-B026-E704F4BDA2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97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итивы синхронизаци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способом решения задачи взаимоисключения является использование примитивов синхрониза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ьюте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ute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блонный кла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ato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0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0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DE0F-14CC-49C5-97CA-EA69E6548B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ьютек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ьютекс предназначен для того, чтобы критичный (требующий синхронизации) участок программного кода выполнялся ровно одним пото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ьютекс может находиться в одном из двух состояний: «свободен» и «захвачен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й поток может захватить мьютекс, переведя его из состояния «свободен» в состояние «захвачен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какой либо поток пытается захватить мьютекс, находящийся в состоянии «захвачен», то выполнение программного кода приостанавливается до тех пор, пока мьютекс не будет переведен в состояние «свободе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0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0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3180-F5D4-499C-ADCB-899524FBA9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ициализация и завершение библиотеки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втоматическое определение числа потоко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ask_scheduler_init::automat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значение по умолчанию). Библиотека автоматически определяет и создает оптимальное количество потоков для данной вычислительной системы. В приложениях с большим числом компонент определить оптимальное число потоков непросто, в этом случае можно положиться на планировщик потоков библиотеки, который определит их оптимальное число автоматически, поэтому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ask_scheduler_init::automat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комендуется использовать в release-версиях при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325A-21DB-4BBC-8294-8C26D534A3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0" name="Rectangle 1"/>
          <p:cNvSpPr/>
          <p:nvPr/>
        </p:nvSpPr>
        <p:spPr>
          <a:xfrm>
            <a:off x="870480" y="5075280"/>
            <a:ext cx="8212320" cy="871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_scheduler_init init; //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ициализация объекта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класса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bb::task_scheduler_init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по умолчанию при создании объекта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ипы мьютексо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 содержит три типа мьютек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ute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ьютекс операционной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pin_mute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ьютекс, выполняющий активное ожид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queuing_mut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1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1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9C8B-96C6-410C-996C-09444C015B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ьютекс операционной систем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ute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ьютекс операционной системы, представляет собой обертку над примитивами синхронизации операционной системы (в операционных системах семейст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icrosoft Window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качестве основы используются критические секци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.к. данный тип мьютекса реализуется с помощью объектов операционной системы, то поток, пытающийся захватить мьютекс, который находится в состоянии «захвачен», переходит  в состояние ожидания, а операционная система передает управление другим поток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освобождения мьютекса операционная система переводит поток в состояния готового к выполн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время прошедшее после освобождения мьютекса и того момента когда поток получит управление может оказаться достаточно боль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1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1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6030-B88D-431D-8C32-C6384D9996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ьютекс активного ожидан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pin_mute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ьютекс, выполняющий активное ожид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, который пытается захватить этот тип мьютекса, остается актив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оток пытается захватить мьютекс, который находится в состоянии «захвачен», то поток продолжает пытаться захватить мьютекс до тех пор, пока мьютекс не освободи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сразу после освобождения мьютекса один из ожидающих потоков начнет выполнение критического к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тип мьютекса желательно использовать, когда время выполнения критического участка кода м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2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2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6FF9-BE16-489D-BF7D-BB412FCF4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ьютекс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bb: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queuing_mute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queuing_mute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т тип мьютекса выполняет активное ожидание захвата мьютекса с сохранение очередности потоков, т.е. выполнение потоков продолжается в том порядке, в котором они пытались захватить мьютек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тип мьютексов обычно является наиболее медленным, т.к. его работа несет дополнительные накладные расх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2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2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1EB5-3B2E-4848-B272-A65BBFDA56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мьютекс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тип мьютексов реализован в виде класса. Обозначим чере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асс, реализующий мьютек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держит всего два мет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::M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структор. Создает мьютекс, находящийся в «свободном» состоя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::~M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еструктор. Уничтожает мьютекс, находящийся в «свободном» состоя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3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3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36CD-FB66-4F03-9D0E-9DD5DDB03D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хват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вобождение мьютекс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хвата/освобождения мьютекса предназначен кла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coped_l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еализованный в теле каждого класса   мьютек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coped_l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держит следующие мет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::scoped_lock::scoped_lock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структор. Создает объект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coped_l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захвата мьюте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::scoped_lock::scoped_lock(M&amp;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структор с параметром. Создает объект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coped_l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еводит мьютекс в состояние «захваче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::scoped_lock::~scoped_lock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еструктор. Переводит мьютекс в состояние «свободен», если он был захвач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3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3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DCD4-6D07-443E-BA85-E07E717B4C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хват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вобождение мьютекс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coped_loc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 следующие мет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::scoped_lock::acquire(M&amp;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етод захвата мьютекса. Переводит мьютекс из состояния «свободен» в состояние «захвачен». Если мьютекс уже находится в состоянии «захвачен», то поток блокир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ool M::scoped_lock::try_acquire(M&amp;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етод неблокирующего захвата мьютекса. Переводит мьютекс из состояния «свободен» в состояние «захвачен», метод возвращ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мьютекс уже находится в состоянии «захвачен», то ничего не происходит, метод возвращ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::scoped_lock::release(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етод освобождения мьютекса. Переводит мьютекс в состояние «свободен», если он был захва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2985-8996-43E9-8232-5466A83B29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ьютекс. Приме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, выполняющий подсчет количества вызовов мето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perator(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спользованием мьютек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3DCB-2574-4479-BEFE-7B170A0808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8" name="Rectangle 1"/>
          <p:cNvSpPr/>
          <p:nvPr/>
        </p:nvSpPr>
        <p:spPr>
          <a:xfrm>
            <a:off x="974520" y="2077200"/>
            <a:ext cx="6154920" cy="41432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Functor::count = 0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utex Functor::myMutex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Functor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int count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mutex myMutex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Методы функтора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operator()(const blocked_range&lt;int&gt;&amp; Range) const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utex::scoped_lock lock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k.acquire(myMutex)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+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k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lease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ьютексы читателей-писателей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имо обычных мьютексов в библиотеке TBB реализованы мьютексы читателей-писа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мьютексы содержат дополнительный флаг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ri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 помощью этого флага можно указать какой тип блокировки мьютекса нужно захватить: читателя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riter=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ли писателя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riter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«читателей» (потоки которые захватили блокировку читателя) при отсутствии блокировки писателя могут выполнять критичный код одновремен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оток захватил мьютекс писателя, то все остальные потоки блокируется при попытке захвата мьюте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5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5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3DB3-215C-457D-B419-30BB645144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ьютексы читателей-писателей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 содержит два типа мьютексов читателей-писателей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pin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mute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queuing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mute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мьютексы по своим характеристикам полностью совпадают с мьютексам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pin_mute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queuing_mute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я мьютексов читателей-писателей от остальных заключаются только в методах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coped_l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5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5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B8F6-F6E2-4763-B369-ABDA4981D5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ициализация и завершение библиотеки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учное задание числа потоко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е положительное число – число потоков, которое будет создано библиотекой. Потоки создаются сразу после вызова конструк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8072-C149-4779-98BB-83B0313F26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6" name="Rectangle 1"/>
          <p:cNvSpPr/>
          <p:nvPr/>
        </p:nvSpPr>
        <p:spPr>
          <a:xfrm>
            <a:off x="788760" y="2646360"/>
            <a:ext cx="8471160" cy="871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heduler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 init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3); // Инициализация объекта класса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bb::task_scheduler_init c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тремя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потоками при создании объекта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ьютексы читателей-писателей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coped_l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мьютексов читателей-писателей содержит следующие мет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::scoped_lock::scoped_lock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структор. Создает объект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coped_l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захвата мьюте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::scoped_lock::scoped_lock(M&amp;, bool write=tru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тор с парамет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ет объект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coped_l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еводит мьютекс в состояние «захвачен». Второй параметр указывает тип блокировки, которую необходимо захватить: читателя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riter=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ли писателя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riter=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::scoped_lock::~scoped_lock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еструктор. Переводит мьютекс в состояние «свободен», если он был захвач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6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6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14F8-DD0C-4AC0-A55B-4AE1FFDFA2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ьютексы читателей-писателей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coped_loc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мьютексов читателей-писателей содержит следующие мет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::scoped_lock::acquire(M&amp;, bool write=tru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етод захвата мьютекса. Переводит мьютекс из состояния «свободен» в состояние «захвачен». Второй параметр указывает тип блокировки, которую необходимо захватить: читателя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riter=fal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ли писателя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riter=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Если мьютекс уже находится в состоянии «захвачен», то поток блокир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ool M::scoped_lock::try_acquire(M&amp;, bool write=tru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етод не блокирующего захвата мьютекса. Второй параметр указывает тип блокировки, которую необходимо захватить: читателя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riter=fal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ли писателя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riter=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Переводит мьютекс из состояния «свободен» в состояние «захвачен», метод возвращ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мьютекс уже находится в состоянии «захвачен», то ничего не происходит, метод возвращ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6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6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F6A6-382C-4940-9D30-B75522A4B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ьютексы читателей-писателе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coped_l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мьютексов читателей-писателей содержит следующие мет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::scoped_lock::release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етод освобождения мьютекса. Переводит мьютекс в состояние «свободен», если он был захвач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::scoped_lock::upgrade_to_writer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изменяет тип блокировки на блокировку пис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::scoped_lock::downgrade_to_reader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зменяет тип блокировки на блокировку чит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7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7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9859-67D1-4DE2-9652-32A89EE060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аблонный класс tbb::atomi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этого класса являются атомарными, т.е. несколько потоков не могут одновременно выполнять методы этого 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отоки пытаются одновременно выполнить методы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atom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один из потоков блокируется и ожидает завершения выполнения метода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7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7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ABBC-C7B5-4464-BBE3-5D54B4A45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аблонный класс tbb::atomic. Приме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, выполняющий подсчет количества вызовов мето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perator(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спользованием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ato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2CFE-6C5C-41CC-B36C-C2970FFBB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4" name="Rectangle 1"/>
          <p:cNvSpPr/>
          <p:nvPr/>
        </p:nvSpPr>
        <p:spPr>
          <a:xfrm>
            <a:off x="1007640" y="2072880"/>
            <a:ext cx="7435080" cy="39819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tomic&lt;int&gt; Functor::coun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Functor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: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atomic&lt;int&gt; coun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: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Методы функтора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operator()(const blocked_range&lt;int&gt;&amp; Range) const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++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явная синхронизац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функции и классы библиотеки TBB выполняют синхронизацию неяв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функц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ждет» завершения всех потоков, занятых вычислениями прежде, чем вернуть управление потоку, с которого она была выз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5B02-D458-4EF5-A37D-14BBD2F907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9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440B-655E-4A6D-84A9-45FAB07D0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1393" name="Прямоугольник 6" descr=""/>
          <p:cNvPicPr/>
          <p:nvPr/>
        </p:nvPicPr>
        <p:blipFill>
          <a:blip r:embed="rId1"/>
          <a:stretch/>
        </p:blipFill>
        <p:spPr>
          <a:xfrm>
            <a:off x="804960" y="2395440"/>
            <a:ext cx="82231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токобезопасные контейнер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т реализацию трех контейнеров, которые являются аналогами контейнер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concurrent_que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черед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concurrent_hash_ma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еш-табл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concurrent_vect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BF3E-D99A-431E-BCC5-5B1FB9C31B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чередь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.к. контейнеры библиотеки TBB предназначены для параллельной работы, то их интерфейс отличается от интерфейса STL контейне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ия межд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td::que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bb::concurrent_que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ключаются в следующ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ueue::fro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ueue::bac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реализованы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bb::concurrent_que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к. их параллельное использование может быть небезоп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личие от STL тип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ize_typ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ется знако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oncurrent_queue::siz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звращает разницу между числом операций добавления элементов и операций извлечения элементов. Если в момент вызова этого метода выполняются методы добавления/извлечения методов, то они тоже учитыв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0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0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5E42-FD5E-4E94-A913-73425FFE0F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черед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я межд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td::que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concurrent_que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ключаются в следующ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concurrent_que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ешен вызов мето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пустой очереди. После его вызова поток блокируется до тех пор пока в очередь не положат эле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concurrent_que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держит мет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op_if_pres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извлекает элемент из очереди, если в очереди есть эле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0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0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9DD1-7456-4B86-AB19-D75C124AB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ициализация и завершение библиотеки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оженная инициализац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_scheduler_init::defer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оженная инициализация объекта класс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::task_scheduler_in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лизация происходит только после вызова мето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_scheduler_init::initial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отип мето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_scheduler_init::initial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гумент метод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umber_of_thread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те же варианты, что и аргумент конструктора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task_scheduler_in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126C-892C-4F03-9B8B-D4D23DFC18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2" name="Rectangle 1"/>
          <p:cNvSpPr/>
          <p:nvPr/>
        </p:nvSpPr>
        <p:spPr>
          <a:xfrm>
            <a:off x="972720" y="3215160"/>
            <a:ext cx="678744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initialize(int number_of_threads = automatic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3" name="Rectangle 1"/>
          <p:cNvSpPr/>
          <p:nvPr/>
        </p:nvSpPr>
        <p:spPr>
          <a:xfrm>
            <a:off x="939600" y="4932720"/>
            <a:ext cx="7823520" cy="11307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_scheduler_init init(task_scheduler_init::deferred)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.initialize(3);         //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ициализация объекта класса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bb::task_scheduler_init c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тремя потоками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9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1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1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CC56-D4CC-43DA-BB21-0CE940F7C9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1412" name="Прямоугольник 6" descr=""/>
          <p:cNvPicPr/>
          <p:nvPr/>
        </p:nvPicPr>
        <p:blipFill>
          <a:blip r:embed="rId1"/>
          <a:stretch/>
        </p:blipFill>
        <p:spPr>
          <a:xfrm>
            <a:off x="804960" y="2395440"/>
            <a:ext cx="82231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стройка среды разработк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н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берите пунк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ptions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ткрывшемся окне выбери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ojects and Solutions\VC++ Directo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ыпадающем спис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how directories 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берите пунк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Library fil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те левой кнопкой мыши на изображении папки и укажите путь к пап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иблиоте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ntel Threading Building Block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и установке по умолчанию этот путь буд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Program Files\Intel\TBB\2.0\&lt;arch&gt;\vc8\lib\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де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lt;arch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но бы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a3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m64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зависимости от режима работы процессор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1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1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108E-4AA1-4EB8-8004-B3DB513E39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борка и настройка проект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ройках проекта необходимо указать библиотеку, с которой будет линковаться приложени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_debug.li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_debug.li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полняет проверки корректности во время выполнения приложения и полностью поддерживается профилировщиком Intel® Thread Prof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.li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ет гораздо более эффективную реализацию функций и методов, ч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_debug.li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тладке приложения рекомендуется использовать библиотек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_debug.li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 сборке рабочей версии –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.li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2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2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0B50-9F44-4B2D-A912-0A04F12CAD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борка и настройка проект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спользовании в приложении операторов выделения динамической памяти (аллокаторов), в настройках проекта необходимо указать библиотек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malloc.li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malloc_debug.li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При отладке приложения рекомендуется использовать библиотек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malloc_debug.li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 сборке рабочей версии –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malloc.li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2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2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4586-C99A-4BA6-9390-D6CAD58B18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ключение библиотек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кн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 Explo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те правой кнопкой мыши на названии проекта и выберите пунк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унк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пол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Dependen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название библиотеки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ки 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3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3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6BC6-8A2A-41D2-A47B-7F70FDB1BF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уск приложен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аботы приложения, использующего библиоте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обходимо иметь одну динамическую библиотеку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.dl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использован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.li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_debug.dl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использован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_debug.li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спользовании в приложении операторов выделения динамической памяти (аллокаторов) необходимо дополнительно иметь динамическую библиотек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malloc.dl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использован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malloc.li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malloc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dl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(при использован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malloc_debug.li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3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3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FC10-76D7-4D0A-B8FE-8289F9FDFA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головочные файлы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9" name=""/>
          <p:cNvGraphicFramePr/>
          <p:nvPr/>
        </p:nvGraphicFramePr>
        <p:xfrm>
          <a:off x="1128600" y="1071720"/>
          <a:ext cx="8325000" cy="5121000"/>
        </p:xfrm>
        <a:graphic>
          <a:graphicData uri="http://schemas.openxmlformats.org/drawingml/2006/table">
            <a:tbl>
              <a:tblPr/>
              <a:tblGrid>
                <a:gridCol w="4162680"/>
                <a:gridCol w="416232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ункции/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чный фай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igned_sp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igned_space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omic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ed_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ed_range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ed_range2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ed_range2d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he_aligned_allo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he_aligned_allocator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urrent_hash_m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urrent_hash_map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urrent_que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urrent_queue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urrent_ve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urrent_vector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ck_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ck_count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t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tex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llel_f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llel_for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llel_red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llel_reduce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llel_s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llel_scan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4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4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E60E-98AE-4674-B06A-0169027268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головочные файл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4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4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F38B-324D-4786-9E73-B111274FCB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1447" name=""/>
          <p:cNvGraphicFramePr/>
          <p:nvPr/>
        </p:nvGraphicFramePr>
        <p:xfrm>
          <a:off x="1128600" y="1071720"/>
          <a:ext cx="8325000" cy="4754520"/>
        </p:xfrm>
        <a:graphic>
          <a:graphicData uri="http://schemas.openxmlformats.org/drawingml/2006/table">
            <a:tbl>
              <a:tblPr/>
              <a:tblGrid>
                <a:gridCol w="4162680"/>
                <a:gridCol w="416232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ункции/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чный фай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llel_s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llel_sort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llel_wh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llel_while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tio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tioner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pe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peline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uing_mut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uing_mutex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uing_rw_mut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uing_rw_mutex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lable_allo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lable_allocator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n_mut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n_mutex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n_rw_mut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n_rw_mutex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l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bb_stddef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k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k_scheduler_i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k_scheduler_init.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вместное использование с OpenM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спользова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о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каждом потоке, созданном с помощью OpenMP (внутри параллельной секции), необходимо запустить планировщик поток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5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5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D142-762E-4BEE-89D9-3D906DAFD5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53" name="Rectangle 1"/>
          <p:cNvSpPr/>
          <p:nvPr/>
        </p:nvSpPr>
        <p:spPr>
          <a:xfrm>
            <a:off x="1071000" y="2876040"/>
            <a:ext cx="7823880" cy="3204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in(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agma omp parallel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_scheduler_init init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agma omp for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 int i=0; i&lt;n; i++ 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Можно использовать функции и классы библиотеки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BB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ценка эффективности приложени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показателем эффективности приложения является время выполнения вычислительно трудоемки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змерения времени в библиоте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кла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tick_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 от аппаратной конфигурации (многопроцессорности, многоядерности), измеряемое время является синхронным между пото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перационных системах семейст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Window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а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tick_cou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ализован с использованием функ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QueryPerformanceCoun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5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5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7FC6-DA92-4D22-B74B-BB1F71CDDA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ициализация и завершение библиотеки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вершение работы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завершением работы приложения необходимо перевести объект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неактивное состояние (завершить работу всех созданных потоков, уничтожить все созданные объекты). Это происходит автоматически в деструкторе класс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3AF1-26FF-40DD-BC13-4709CC09D6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рение времени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метод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tick_cou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ет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ряет текущее значение врем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ческий мет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ает экземпляр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tick_cou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6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6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F5E9-716F-459D-B44F-E621F6738F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64" name="Rectangle 1"/>
          <p:cNvSpPr/>
          <p:nvPr/>
        </p:nvSpPr>
        <p:spPr>
          <a:xfrm>
            <a:off x="1130400" y="3072240"/>
            <a:ext cx="471456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tick_count tick_count::now(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рение времен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в два замера времени (в начале и в конце измеряемого участка программы), необходимо вычесть два экземпляра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tick_cou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евести интервал времени в секун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ом вычитания двух экземпляров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tick_cou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экземпляр вспомогательного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ick_count::interval_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представляет интервал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еревода интервала времени в секунды кла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ick_count::interval_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держит мет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cond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6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6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0B35-F8F2-434D-80C9-20FA29B2C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70" name="Rectangle 1"/>
          <p:cNvSpPr/>
          <p:nvPr/>
        </p:nvSpPr>
        <p:spPr>
          <a:xfrm>
            <a:off x="981360" y="5289840"/>
            <a:ext cx="380772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interval_t::seconds(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рение времени. Приме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ичная схема измерения времени выполнения вычисл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7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7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D81A-6ACF-49EF-B10B-A95FA1A1DF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76" name="Rectangle 1"/>
          <p:cNvSpPr/>
          <p:nvPr/>
        </p:nvSpPr>
        <p:spPr>
          <a:xfrm>
            <a:off x="997200" y="2109240"/>
            <a:ext cx="7046280" cy="2167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SomeFunction(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ck_count start = tick_count::now()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Вычисления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ck_count finish = tick_count::now()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ремя вычислений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%f seconds\n",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nish - start).seconds())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инамическое выделение памят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ые операторы выделения динамической памяти работают с общей кучей для всех потоков, что требует наличия синхро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т масштабируемые операторы выделения динамической памя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8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8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DEF8-5859-484D-8041-5396D466D1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82" name="Rectangle 1"/>
          <p:cNvSpPr/>
          <p:nvPr/>
        </p:nvSpPr>
        <p:spPr>
          <a:xfrm>
            <a:off x="1138320" y="3295080"/>
            <a:ext cx="7305480" cy="2167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ыделение памяти и заполнение нулевыми элементами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* scalable_calloc(size_t nobj, size_t size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свобождение памяти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 scalable_free(void* ptr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ыделение памяти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* scalable_malloc(size_t size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еревыделение памяти и заполнение нулевыми элементами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* scalable_realloc(void* ptr, size_t size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ные источники информаци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ициальный сай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® Threading Building Blocks. – [http://www.intel.com/software/products/tbb/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® Threading Building Blocks. Reference Manual. Version 1.6. – Intel Corporation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® Threading Building Blocks. Tutorial. Version 1.6.  – Intel Corporation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8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8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CFD5-AE3F-4DDC-B080-7E3038818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rews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(2000).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ndations of Multithreaded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 Distributed Programming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ison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sley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русский перевод Эндрюс Г. Р. Основы многопоточного, параллельного и распределенного программирования. – М.: Издательский дом «Вильямс», 2003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inn, M. J. (2004). Parallel Programming in C with MPI and OpenMP. – New York, NY: McGraw-Hil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arbara Chapman, Gabriele Jost, Ruud van der Pas (2007). Using OpenMP: Portable Shared Memory Parallel Programming (Scientific Computation and Engineering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йерс С. Эффективное использование С++. 35 новых способов улучшить стиль программирования. – СПб: Питер, 2006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йерс С. Эффективное использование C++. 55 верных способов улучшить структуру и код ваших программ. – М.: ДМК Пресс, 2006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авловская Т.А. C/C++. Программирование на языке высокого уровня. – СПб: Питер, 2003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ихтер Дж. Windows для профессионалов: создание эффективных Win32 приложений с учетом специфики 64-разрядной версии Windows/Пер. с англ. – 4-е изд. – СПб: Питер; М.: Издательско-торговый дом «Русская редакция», 2001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9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9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9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6738-4803-45D3-81B0-B4E73B1F8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формационные ресурсы сети Интерне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а библиоте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сайте корпора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m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29479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 сообщества пользователе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[http://threadingbuildingblocks.org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 Лаборатории Параллельных информационных технологий НИВЦ МГУ –[http://www.parallel.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ициальный сайт OpenMP – [www.openmp.org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9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9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9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9B67-F1E9-4BD0-ADB8-4E0C9C3E3A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вторский коллекти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166680" y="1197000"/>
            <a:ext cx="9244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еров Иосиф Борисович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т.н., доцент кафедры Математического обеспечения ЭВМ факультета ВМК НН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ысоев Александр Владимирович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систент кафедры Математического обеспечения ЭВМ факультета ВМК НН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днев Алексей Александрович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систент кафедры Математического обеспечения ЭВМ факультета ВМК НН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9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50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50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88E8-96F3-4FDA-A0AD-4E0C209AFA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ициализация и завершение библиотеки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вершение работ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деактивировать объект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ручную в любой требуемый момент, чтобы освободить ресурсы системы под другие нужды. Для этих целей существует мет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вызова мето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повторно активировать объект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ызвав мет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initial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B485-D44B-4C86-860F-1248543ED8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4" name="Rectangle 1"/>
          <p:cNvSpPr/>
          <p:nvPr/>
        </p:nvSpPr>
        <p:spPr>
          <a:xfrm>
            <a:off x="970560" y="3143520"/>
            <a:ext cx="238284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terminate(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ициализация и завершение библиотек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зменения числа потоков библиотеки нужно перевести текущий экземпляр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ask_scheduler_in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неактивное состояние, вызвав мет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t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уничтожить объект, вызвав его деструктор. После этого можно вызывать мет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initial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нового объекта или создать объект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указав необходимое число пото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02A2-C203-4352-92BA-29ACA50EF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ициализация и завершение библиотеки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ипичная схем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того, чтобы создать экземпляр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task_scheduler_in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обходимо подключить заголовочный файл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все фун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ы библиотеки расположены в пространстве имё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удобно объявить эту область видимости в начале програм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C2B4-C56F-4438-89C9-3BDFE7F66A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5" name="Rectangle 1"/>
          <p:cNvSpPr/>
          <p:nvPr/>
        </p:nvSpPr>
        <p:spPr>
          <a:xfrm>
            <a:off x="1013040" y="3583080"/>
            <a:ext cx="4974480" cy="26859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clude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bb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heduler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namespace tbb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in(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_scheduler_init ini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Вычисления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ECC1-310F-4CD0-BE46-E44B8453B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ициализация и завершение библиоте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араллеливание циклов с известным числом повтор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терационное простран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ализация функт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араллеливание циклов с редукци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ук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ализация функт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15800" y="202680"/>
            <a:ext cx="9082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держание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ициализация и завершение библиотеки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жнённая схем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ческое управление количеством потоков создаваемых библиотек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9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0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AFEE-A413-4EF4-843F-56B22DAFB7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1" name="Rectangle 1"/>
          <p:cNvSpPr/>
          <p:nvPr/>
        </p:nvSpPr>
        <p:spPr>
          <a:xfrm>
            <a:off x="1049400" y="2086200"/>
            <a:ext cx="8341920" cy="3463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clude "tbb/task_scheduler_init.h"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namespace tbb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in(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heduler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 init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// Инициализация по умолчанию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Вычисления 1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ate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         // Деинициализация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lize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4);       // Инициализация с 4-мя потоками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Вычисления 2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0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                          // Деинициализация при уничтожении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(вызов деструктора) объекта init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9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0966-AEC7-4262-8B34-A8A505342A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665" name="Прямоугольник 6" descr=""/>
          <p:cNvPicPr/>
          <p:nvPr/>
        </p:nvPicPr>
        <p:blipFill>
          <a:blip r:embed="rId1"/>
          <a:stretch/>
        </p:blipFill>
        <p:spPr>
          <a:xfrm>
            <a:off x="804960" y="1968480"/>
            <a:ext cx="82231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параллеливание циклов с известным числом повторени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 вычислений с заранее определенным числом итераций обычно происходит с использованием цик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Библиоте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ет возможность реализовать параллельную версию таких вычислений. Для этого библиотека предоставляет шаблонную функци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parallel_for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9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0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4199-C2E4-4D14-91BF-5C3538950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1" name="Rectangle 1"/>
          <p:cNvSpPr/>
          <p:nvPr/>
        </p:nvSpPr>
        <p:spPr>
          <a:xfrm>
            <a:off x="1007640" y="3573720"/>
            <a:ext cx="7435080" cy="61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&lt;typename Range, typename Body&g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parallel_for(const Range&amp; range, const Body&amp; body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параллеливание циклов с известным числом повторени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параметр функц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_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ет итерационное пространство –  класс специального вида, задающий количество итераций цик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параметр – функтор, класс, реализующий вычисления цикла через мет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dy::operator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С+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унктор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ункциональными класс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ют классы специального вида, основная функциональность которых сосредоточена в методе operator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6DC7-1CEF-43FB-946D-CAA847DABF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7" name="Rectangle 1"/>
          <p:cNvSpPr/>
          <p:nvPr/>
        </p:nvSpPr>
        <p:spPr>
          <a:xfrm>
            <a:off x="1007640" y="1314720"/>
            <a:ext cx="7435080" cy="61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&lt;typename Range, typename Body&g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parallel_for(const Range&amp; range, const Body&amp; body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. Матрично-векторное умножени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495000" y="1197000"/>
            <a:ext cx="8915400" cy="4968720"/>
          </a:xfrm>
          <a:prstGeom prst="rect">
            <a:avLst/>
          </a:prstGeom>
          <a:ln w="0">
            <a:noFill/>
          </a:ln>
        </p:spPr>
      </p:pic>
      <p:sp>
        <p:nvSpPr>
          <p:cNvPr id="68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8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8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E7E0-66E3-4B53-930E-FE887F35E5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683" name="Object 2"/>
          <p:cNvGraphicFramePr/>
          <p:nvPr/>
        </p:nvGraphicFramePr>
        <p:xfrm>
          <a:off x="1281240" y="1268280"/>
          <a:ext cx="7313400" cy="348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1240" y="1268280"/>
                    <a:ext cx="731340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Object 3"/>
          <p:cNvGraphicFramePr/>
          <p:nvPr/>
        </p:nvGraphicFramePr>
        <p:xfrm>
          <a:off x="1136520" y="5038560"/>
          <a:ext cx="7632720" cy="695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36520" y="5038560"/>
                    <a:ext cx="76327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enMP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ое умножение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AD6B-CE9B-41D7-8CAF-26173E6D3A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2" name="Rectangle 1"/>
          <p:cNvSpPr/>
          <p:nvPr/>
        </p:nvSpPr>
        <p:spPr>
          <a:xfrm>
            <a:off x="1013400" y="1649520"/>
            <a:ext cx="8212320" cy="1726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VectorsMultiplication(double *v1, double *v2, int size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result=0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0; i&lt;size; i++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ult += v1[i] * v2[i]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sul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3" name="Rectangle 1"/>
          <p:cNvSpPr/>
          <p:nvPr/>
        </p:nvSpPr>
        <p:spPr>
          <a:xfrm>
            <a:off x="1014480" y="3889440"/>
            <a:ext cx="8341920" cy="19602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OpenMPMatrixVectorMultiplication(double* matrix,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vector, double* resultVector, int rows, int columns) 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agma omp parallel for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0; i&lt;rows; i++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ultVector[i] =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sMultiplication(&amp;(matrix[i*columns]), vector, columns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02AE-7ABD-4697-B702-E5F6853A19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9" name="Rectangle 1"/>
          <p:cNvSpPr/>
          <p:nvPr/>
        </p:nvSpPr>
        <p:spPr>
          <a:xfrm>
            <a:off x="1013400" y="4338720"/>
            <a:ext cx="8212320" cy="1726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TBBMatrixVectorMultiplication(double* matrix,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vector, double* resultVector, int rows, int columns,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grainSize) 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for(blocked_range&lt;int&gt;(0, rows, grainSize),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sMultiplicator(matrix, vector, resultVector, columns) 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0" name="Rectangle 1"/>
          <p:cNvSpPr/>
          <p:nvPr/>
        </p:nvSpPr>
        <p:spPr>
          <a:xfrm>
            <a:off x="1014480" y="1650960"/>
            <a:ext cx="8341920" cy="19602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OpenMPMatrixVectorMultiplication(double* matrix,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* vector, double* resultVector, int rows, int columns) 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agma omp parallel for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0; i&lt;rows; i++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ultVector[i] =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sMultiplication(&amp;(matrix[i*columns]), vector, columns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2931-A363-4630-B072-D6D62F525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6" name="Rectangle 1"/>
          <p:cNvSpPr/>
          <p:nvPr/>
        </p:nvSpPr>
        <p:spPr>
          <a:xfrm>
            <a:off x="1011240" y="1665720"/>
            <a:ext cx="8219880" cy="4448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VectorsMultiplicator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 double *matrix,  *vector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*const resultVector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const columns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: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sMultiplicator(double *tmatrix, double *tvector,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*tresultVector, int tcolumns) : matrix(tmatrix),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(tvector), resultVector(tresultVector),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s(tcolumns)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}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operator()( const blocked_range&lt;int&gt;&amp; r ) const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begin=r.begin(),  end=r.end(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 int i=begin; i!=end; i++ ) 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ultVector[i] =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sMultiplication(&amp;(matrix[i*columns]), vector, columns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терационное пространств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 TBB содержит два специально реализованных итерационных простран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мерное итерационное пространств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blocked_r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мерное итерационное пространств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blocked_range2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библиотеки может реализовать свои итерационные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1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1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E868-0FE9-42F1-AE9C-66D0E842BA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дномерное итерационное пространств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мерное итерационное пространств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blocked_ran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дает диапазон в виде полуинтерва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тип элемент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дается через шаблон. В качестве параметра шаблона могут быть использованы: тип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указател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тераторы прямого доступа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1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1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D377-BDCF-439A-95E7-C022B10C29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3F22-4BD8-494E-A80D-1CE10AAAB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араллеливание сложных конструк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ртиров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клы с услов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вейерные вы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дро библиоте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ие зада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логическими задач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итивы синхрон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окобезопасные контейне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415800" y="202680"/>
            <a:ext cx="9082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дномерное итерационное пространств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bb::blocked_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ет три основных пол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_be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_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_grain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поля расположены в секц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лучить их значения можно только с помощью мет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y_beg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y_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дают левую и правую границу полуинтервал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[my_begin, my_end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y_grainsiz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меет целый тип и задает размер порции вычис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C324-96D7-4316-8E49-DAC9DDD042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дномерное итерационное пространство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ть значение полей класс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::blocked_ran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с помощью констру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::blocked_range: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тип, задаваемый через шабл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5855-9BC9-4B72-BE2A-52BD878E1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7" name="Rectangle 1"/>
          <p:cNvSpPr/>
          <p:nvPr/>
        </p:nvSpPr>
        <p:spPr>
          <a:xfrm>
            <a:off x="1005840" y="2073600"/>
            <a:ext cx="7176600" cy="61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locked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nge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locked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nge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gin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end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 grainsize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1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дномерное итерационное пространство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щеплени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щепление – операция разделения итерационного пространство на два подмнож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дномерного итерационного пространства разделение итерационного пространство выполняется на два подмножества содержащих (с точностью до округления) одинаковое количество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щепление одномерного итерационного пространства происходит с помощью конструктора расщеп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F376-338D-405A-8F25-23B0E445F2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3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дномерное итерационное пространство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щепление. Приме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итерационное пространств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дает полуинтервал [5, 14) и размер порции вычислений равный 2. Итерационное пространств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здается с помощью конструктора расщепления на основе итерационного пространст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вызова конструктора расщепления будет создан еще один объект того же типа и будут пересчитаны диапазоны как в новом, так и в старом объек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4418-6B76-4EAA-BE50-94B52EA831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9" name="Rectangle 1"/>
          <p:cNvSpPr/>
          <p:nvPr/>
        </p:nvSpPr>
        <p:spPr>
          <a:xfrm>
            <a:off x="975960" y="2529000"/>
            <a:ext cx="4585320" cy="61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locked_range&lt;int&gt; a(5, 14, 2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locked_range&lt;int&gt; b(a, split()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3738600" y="4083120"/>
          <a:ext cx="257184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8600" y="4083120"/>
                    <a:ext cx="257184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дномерное итерационное пространство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дномерного итерационного пространства для задания итераций цик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ог без использования одномерного итера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63F9-BE16-4282-B6F6-16A5FFC9D2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7" name="Rectangle 1"/>
          <p:cNvSpPr/>
          <p:nvPr/>
        </p:nvSpPr>
        <p:spPr>
          <a:xfrm>
            <a:off x="1001880" y="2076840"/>
            <a:ext cx="6657840" cy="13899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locked_range&lt;int&gt; range(0, 100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nt i = range.begin(); i != range.end(); i++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Вычисления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8" name="Rectangle 1"/>
          <p:cNvSpPr/>
          <p:nvPr/>
        </p:nvSpPr>
        <p:spPr>
          <a:xfrm>
            <a:off x="982440" y="4723200"/>
            <a:ext cx="4067280" cy="11307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0;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 100;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+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Вычисления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тельское итерационное пространств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чик может реализовать своё итерацион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ран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ля этого необходимо определить класс, в котором следует реализовать мет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nge(const R&amp;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структор копир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~Range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еструкт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ool empty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етод проверки итерационного пространства на пустоту. Если оно пусто, то функция должна верну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ач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ool is_divisible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етод проверки на возможность разделения итерационного пространства. Если разделение возможно, то функция должна верну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ач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02E5-29AE-4800-A811-CC439D28FB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тельское итерационное пространств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nge(R&amp; r, spli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структор расщепления, создает копию итерационного пространства и разделяет диапазон, задаваемый итерационным пространством, на две части (изменяется диапазон итерационного пространства как вновь созданного объекта, так и объекта его породивше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pl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лужебный класс без полей и методов) предназначен для того, чтобы отличить конструктор копирования от конструктора расщеп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E84A-4728-4221-A3FF-E4D9AAB523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9" name="Rectangle 1"/>
          <p:cNvSpPr/>
          <p:nvPr/>
        </p:nvSpPr>
        <p:spPr>
          <a:xfrm>
            <a:off x="1001880" y="4724640"/>
            <a:ext cx="1864800" cy="13899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space tbb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split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}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тельское итерационное пространств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ог одномерного итерационного пространства тип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89B3-4A35-4A00-90CA-C3504705E6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5" name="Rectangle 1"/>
          <p:cNvSpPr/>
          <p:nvPr/>
        </p:nvSpPr>
        <p:spPr>
          <a:xfrm>
            <a:off x="1017000" y="1693440"/>
            <a:ext cx="6901560" cy="45694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SimpleRange 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y_begin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y_end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begin() const { return my_begin; }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end() const { return my_end; }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 empty() const { return my_begin == my_end; }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 is_divisible() const { return my_end &gt; my_begin + 1; }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mpleRange(int begin, int end): my_begin(begin), my_end(end)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}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mpleRange(SimpleRange&amp; r, split )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edium = (r.my_begin + r.my_end) / 2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_begin = medium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_end = r.my_end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.my_end = medium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тельское итерационное пространств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тор копирования и деструктор явно не реализованы, т.к. их реализация по умолчанию является коррект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лас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impleRan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объявлено пол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y_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задавало размер порции вычислений в клас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blocked_ran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го наличие в общем случае не является обязательным, т.к. размер порции вычислений на самом деле определяется реализацией мето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s_divisib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указанной реализации этот размер равен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_beg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_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ет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общем случае не обязательны. В данном примере наглядно демонстрируется как может быть реализовано простейшее одномерное итерационное простра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9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0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7501-C510-41D1-BE19-E39478D9E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ункто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параметр функц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_for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функтор, класс, реализующий вычисления цикла через мет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dy::operator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вом приближении можно считать, что функтор получается в результате трансформации тела цикла в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функциональным классом и не должен содержать в себе ни обрабатываемые данные, ни получаемы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C509-F791-42E8-A0FD-6AAD7BFFE3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6" name="Rectangle 1"/>
          <p:cNvSpPr/>
          <p:nvPr/>
        </p:nvSpPr>
        <p:spPr>
          <a:xfrm>
            <a:off x="1007640" y="1314720"/>
            <a:ext cx="7435080" cy="61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&lt;typename Range, typename Body&g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parallel_for(const Range&amp; range, const Body&amp; body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DC7D-6077-4445-A496-F8B3ADC66F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5800" y="202680"/>
            <a:ext cx="9082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99800" y="1216080"/>
            <a:ext cx="95058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ется один из инструментов параллельного программирования, предназначенный для распараллеливания решения задач в системах с общей памятью, –  библиоте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 Threading Building Block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иде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ова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+ для быстрой разработ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осс-платформе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орошо масштабируемых параллельных при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оставля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змы абстрагир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парадигм многопоточного программирования, позволяя сосредоточиться непосредственно на реш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кладной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ункто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52160" y="1213920"/>
            <a:ext cx="8915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тор для функц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ен содержать следующие мет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тор копирования. Необходим для корректной работы функ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создает копии функтора в соответствии с принятым разработчиками библиотеки алгоритмом реализации параллел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труктор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~Body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perator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ыполняющий вычисления. Его аргументом является итерационное простра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5B15-717C-452D-8283-1E7AC2A6B0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2" name="Rectangle 1"/>
          <p:cNvSpPr/>
          <p:nvPr/>
        </p:nvSpPr>
        <p:spPr>
          <a:xfrm>
            <a:off x="1124640" y="5286600"/>
            <a:ext cx="471456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operator()(Range&amp; range) const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ункто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сновным в функто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объявлен константным, поскольку не нуждается в изменении значений полей функтора, если таковые в нем име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EA21-43EE-433D-8DF8-A17E84F84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унктор. Пример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честве примера рассмотрим задачу умножения матрицы на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же представлена реализация вспомогательной функции скалярного умножения ве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3A3A-669C-401C-8847-91DB731082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3" name="Rectangle 1"/>
          <p:cNvSpPr/>
          <p:nvPr/>
        </p:nvSpPr>
        <p:spPr>
          <a:xfrm>
            <a:off x="1049400" y="2921040"/>
            <a:ext cx="8341920" cy="24267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Скалярное умножение векторов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VectorsMultiplication(const double *a, const double *b,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size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result = 0.0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 = 0; i &lt; size; i++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ult += a[i] * b[i]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sul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унктор. Приме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495000" y="1197000"/>
            <a:ext cx="8915400" cy="4968720"/>
          </a:xfrm>
          <a:prstGeom prst="rect">
            <a:avLst/>
          </a:prstGeom>
          <a:ln w="0">
            <a:noFill/>
          </a:ln>
        </p:spPr>
      </p:pic>
      <p:sp>
        <p:nvSpPr>
          <p:cNvPr id="79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8377-8677-4F19-B7B8-E4EB2B9542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9" name="Rectangle 1"/>
          <p:cNvSpPr/>
          <p:nvPr/>
        </p:nvSpPr>
        <p:spPr>
          <a:xfrm>
            <a:off x="985680" y="1301400"/>
            <a:ext cx="8638920" cy="4887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VectorsMultiplicator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Функтор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 double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rix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*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// Исходные данные для умножения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 resultVector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   // Вектор результатов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const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O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s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       // Количество столбцов матрицы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: 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sMultiplicator(double *tmatrix, double *tvector, 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*tresultVector,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tnumOfColumns) : matrix(tmatrix), 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(tvector),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ultVector(tresultVector), 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O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s(t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O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s)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} 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operator()(const blocked_range&lt;int&gt;&amp; r) const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begin = r.begin(),  end = r.end();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nt i = begin; i != end; i++)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ultVector[i] = VectorsMultiplication(&amp;(matrix[i * numOfColumns]),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umO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s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ланирование вычислени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работы функ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троен таким образом, что планирование вычислений осуществляется динамически, то есть на этапе выпол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ющим моментом планирования является то, как реализовано итерационное простр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0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0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489C-22CF-48DA-B908-353EFB9312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ирование вычислений при использовании одномерного итерационного простран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полей одномерного итерационного пространства является размер порции вычислений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значение является определяющим при планировании вычис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0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0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FE6A-CDA6-4CA2-9F39-D3C856A48A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ирование вычислений при использовании одномерного итерационного простран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bb::parallel_fo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пределяет между всеми потоками на выполнение части итерационного пространства, размер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z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z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о размеру итерационного пространства (общему числу итераций), то все итерации будут выполнены на одном пото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z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о &lt;общее число итерации&gt;/&lt;число потоков&gt;, то каждый поток, скорее всего (т.к. планирование осуществляется динамически, то точно сказать нельзя), выполнит одинаковое число итераций, равно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z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ньше, чем &lt;общее число итерации&gt;/&lt;число потоков&gt;, то планировщик потоков распределит итерации между потоками динамиче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ACFC-DC48-4076-A9FC-6E140C32ED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размера порции вычислений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ое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особствует увеличению масштабируемости приложения (запуск на системе с большим количеством процессоров/ядер приведет к большему ускорени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если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о половине итерационного пространства, то при запуске на машине с 4-мя процессорами работа будет выполняться только двумя из них, т.к. остальным ее просто не достанется из-за большого знач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устанавливать маленькие знач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большей масштабируемости при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59B1-9ABE-4238-B67A-28A9425639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размера порции вычислений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планировщика потоков занимает определенное время, поэтому, чем меньше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ем больше времени потребуется функ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parallel_for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спределение зад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чень малых значения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ложение будет обладать очень хорошей масштабируемостью, но при этом будет работать очень не эффективно из-за больших накладных расходов на работу планировщ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чень больших значения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ложение будет работать максимально эффективно, но будет очень плохая его масштабируе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CAAB-9E43-4046-BFB5-0D29C8DADD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размера порции вычислени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должен быть слишком маленьким, т.к. это может негативно отразиться на времени работы приложения (большие накладные расходы на работу функ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должен быть слишком большим, т.к. это может негативно отразиться на масштабируемости при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891D-D9CE-483B-8889-5C6CEA6AF3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значение библиотек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 Intel®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ing Building Block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предназначена для разработки параллельных программ для систем с общей памя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библиотеки предполагает и дает возможность разработки параллельной программы в объе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 скрывает низкоуровневую работу с потоками, упрощая тем самым процесс создания параллельной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4A33-50CC-4B81-9A82-02CCE5B31B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экспериментального подбора размера порции вычислений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статочно большим, например равным размеру итерационного пространства в случае использования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locked_ran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стите приложение в один поток, замерьте время его выпол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2 раза меньше, запустите приложение по-прежнему в один поток и оцените замедление по отношению к шагу 2. Если приложение замедлилось на 5-10%, это хороший результат. Продолжайте уменьш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тех пор, пока замедление не превысит 5-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BB5E-52C9-4E17-8184-79386370D1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экспериментального подбора размера порции вычислени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указанного алгоритма происходит определение накладных расходов, расходующихся на планирование вычис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лгоритме устанавливается величина этих накладных расходов, равная 5-10% от времени работы всего алгорит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ускорении параллельной версии над последовательной при таком подходе не будет превышать 10-20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6FEA-A751-4D77-B32C-AB76A5D54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 работы функции tbb::parallel_f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имеется функтор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дномерное итерационное пространство, размер которого равен 14 - 5 = 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 итерационного пространства больше, чем размер порции вычислений (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поэтому функц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bb::parallel_fo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щепляет итерационное пространство на два, одновременно создавая для нового итерационного пространства собственный функтор (через конструктор копирования) и меняя, размер итерационного пространства для старого функ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оцесс будет происходить рекурсивно, до тех пор, пока размер очередного итерационного пространства будет не больше 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этого для каждого созданного функтора будет вызван метод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ody::operator(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сопоставленным с этим функтором итерационным пространством в качестве парам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2DA8-16AD-4BFA-BF9E-C46265F1AE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5" name="Rectangle 1"/>
          <p:cNvSpPr/>
          <p:nvPr/>
        </p:nvSpPr>
        <p:spPr>
          <a:xfrm>
            <a:off x="1018800" y="1214640"/>
            <a:ext cx="652824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for(blocked_range&lt;int&gt;(5, 14, 2), body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 работы функции tbb::parallel_f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5595480" y="1197000"/>
            <a:ext cx="38149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пис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д стрелкой означает, что создается новый экземпляр итерационного пространства и функ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нктирная стрелка означает, что изменяется диапазон, задаваемый итерационным пространством, при этом создание новых экземпляров функтора и итерационного пространства не происхо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9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0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7045-23A7-4895-985E-662BF6D85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1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852" name="Object 1"/>
          <p:cNvGraphicFramePr/>
          <p:nvPr/>
        </p:nvGraphicFramePr>
        <p:xfrm>
          <a:off x="452520" y="1643040"/>
          <a:ext cx="531972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43040"/>
                    <a:ext cx="531972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4" name="Object 1"/>
          <p:cNvGraphicFramePr/>
          <p:nvPr/>
        </p:nvGraphicFramePr>
        <p:xfrm>
          <a:off x="485640" y="1643040"/>
          <a:ext cx="518184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643040"/>
                    <a:ext cx="518184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 параллельной обработки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595480" y="1197000"/>
            <a:ext cx="38149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первого расщепления итерационного пространства будут существовать два не пересекающихся итерационных простран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 библиотеке создано больше одного потока, то обработка полученных поддеревьев будет происходить паралл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9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0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4F16-DDF7-43B9-A108-9915186A1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2" name="Object 1"/>
          <p:cNvGraphicFramePr/>
          <p:nvPr/>
        </p:nvGraphicFramePr>
        <p:xfrm>
          <a:off x="485640" y="1643040"/>
          <a:ext cx="518184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643040"/>
                    <a:ext cx="518184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 параллельной обработк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5595480" y="1197000"/>
            <a:ext cx="38149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«порции» вычислений в виде итерационного пространства и связанного с ним функтора может выполняться и часто выполняется отдельно от дальнейшей обработки этого «порц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5BBF-480F-4FD1-8933-6834B82680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9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использования функции tbb::parallel_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задаче умножения матрицы на вектор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umOfRow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личество строк матрицы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umOfColum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личество столбцов матриц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192A-40FA-4877-938A-5D6C502A1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5" name="Rectangle 1"/>
          <p:cNvSpPr/>
          <p:nvPr/>
        </p:nvSpPr>
        <p:spPr>
          <a:xfrm>
            <a:off x="1046880" y="2864520"/>
            <a:ext cx="7564680" cy="871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for(blocked_range&lt;int&gt;(0, numOfRows, grainSize),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sMultiplicator(matrix, vector,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ultVector, numOfColumns)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6" name="Rectangle 1"/>
          <p:cNvSpPr/>
          <p:nvPr/>
        </p:nvSpPr>
        <p:spPr>
          <a:xfrm>
            <a:off x="1068480" y="4605480"/>
            <a:ext cx="7046280" cy="13899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agma omp parallel for schedule(dynamic, grainsize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 = 0; i &lt; numOfRows; i++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ultVector[i] =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sMultiplication(&amp;(matrix[i*columns]),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, numOfColumns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9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91B8-787A-476C-9AAD-85F788363E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880" name="Прямоугольник 6" descr=""/>
          <p:cNvPicPr/>
          <p:nvPr/>
        </p:nvPicPr>
        <p:blipFill>
          <a:blip r:embed="rId1"/>
          <a:stretch/>
        </p:blipFill>
        <p:spPr>
          <a:xfrm>
            <a:off x="804960" y="1682640"/>
            <a:ext cx="82231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дукц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типичных задач параллельных вычис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работке данных параллельно каждый из потоков выполняет обработку части данных, в итоге конечного (суммарного) результата нет ни у одного по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«собрать» данные со всех пото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ожет быть обычное суммирование значений, полученных каждым пото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ожет быть выполнение логических операций (например логическое «и») над значениями, полученными каждым пото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EA4C-C1F4-42C5-BF22-F0072AEA98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параллеливание циклов с редукцие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аспараллеливания циклов в которых необходимо выполнять редукц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иблиоте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шаблонная функц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parallel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9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0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CCBB-ED1D-4CF4-A214-290849D40F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1" name="Rectangle 1"/>
          <p:cNvSpPr/>
          <p:nvPr/>
        </p:nvSpPr>
        <p:spPr>
          <a:xfrm>
            <a:off x="997200" y="2502000"/>
            <a:ext cx="7046280" cy="61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&lt;typename Range, typename Body&gt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parallel_reduce(const Range&amp; range, Body&amp; body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зможности библиотеки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ходит набор классов и функций, позволяющих решать следующие типичные для разработки параллельных программ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араллеливание циклов с известным числом повтор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араллеливание циклов с известным числом повторений с редук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араллеливание циклов с услов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араллеливание рекур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2472-076B-42DF-8CF8-8BB30A692C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параллеливание циклов с редукцие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параметр, так же как и в функц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итерационное простран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параметр – функтор, класс, реализующий вычисления цикла через мет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dy::operator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ыполняющий редук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, которые необходимо реализовать в функторе для функц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_reduc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личаются от тех, которые реализуются для функто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1472-94E7-4BC7-9FC5-E72FE5550C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7" name="Rectangle 1"/>
          <p:cNvSpPr/>
          <p:nvPr/>
        </p:nvSpPr>
        <p:spPr>
          <a:xfrm>
            <a:off x="1005120" y="1314720"/>
            <a:ext cx="7046280" cy="61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&lt;typename Range, typename Body&gt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parallel_reduce(const Range&amp; range, Body&amp; body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унктор для функци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_reduce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452160" y="1213920"/>
            <a:ext cx="8915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тор для функц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_reduc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жен содержать следующие мет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тор расщеп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тру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, выполняющий вычис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, выполняющий редукцию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2B50-F8C2-45A6-8A7D-9F84C6302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3" name="Rectangle 1"/>
          <p:cNvSpPr/>
          <p:nvPr/>
        </p:nvSpPr>
        <p:spPr>
          <a:xfrm>
            <a:off x="1328760" y="2503800"/>
            <a:ext cx="251244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dy(body&amp;, split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4" name="Rectangle 1"/>
          <p:cNvSpPr/>
          <p:nvPr/>
        </p:nvSpPr>
        <p:spPr>
          <a:xfrm>
            <a:off x="1318320" y="3429360"/>
            <a:ext cx="108756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~Body(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5" name="Rectangle 1"/>
          <p:cNvSpPr/>
          <p:nvPr/>
        </p:nvSpPr>
        <p:spPr>
          <a:xfrm>
            <a:off x="1339560" y="4286520"/>
            <a:ext cx="393768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operator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(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nge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amp;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nge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6" name="Rectangle 1"/>
          <p:cNvSpPr/>
          <p:nvPr/>
        </p:nvSpPr>
        <p:spPr>
          <a:xfrm>
            <a:off x="1330200" y="5215320"/>
            <a:ext cx="277164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join(Body&amp; rhs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унктор для функци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_reduce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, выполняющий вычислен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гументом этого метода является итерационное простран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тим, что в отличие от функтора функц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bb::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 функтора функц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bb::parallel_redu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числительный метод не является константным, а это означает, что в методе можно изменять поля класса. Данное требование связано с необходимостью сохранения промежуточных результатов, которые будут использоваться при выполнении операции редукции для получения окончательного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C1B4-7F76-4EB0-9D28-914A900631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2" name="Rectangle 1"/>
          <p:cNvSpPr/>
          <p:nvPr/>
        </p:nvSpPr>
        <p:spPr>
          <a:xfrm>
            <a:off x="982440" y="1289520"/>
            <a:ext cx="393768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operator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(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nge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amp;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nge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унктор для функци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_reduce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, выполняющий редукцию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честве параметра принимает ссылку на функтор, который выполнил часть вычисл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читанные им данные должны быть учтены текущим функтором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для получения окончательного результа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тор, переданный по ссылке, автоматически уничтожается после завершения редукции (вызова функ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8B36-A678-4565-A5DE-ACD56443E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8" name="Rectangle 1"/>
          <p:cNvSpPr/>
          <p:nvPr/>
        </p:nvSpPr>
        <p:spPr>
          <a:xfrm>
            <a:off x="973080" y="1289520"/>
            <a:ext cx="277164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join(Body&amp; rhs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работ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_redu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 работ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bb::parallel_redu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хож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bb::parallel_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bb::parallel_redu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создает копии исходного функтора при каждом расщеплении (кроме отдельного случая), а оперирует ссылками на функто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bb::parallel_redu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яет дополнительный этап вычислений – редукцию и, в зависимости от того, как происходит распределение вычислений по потокам, реализует одну из двух сх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чередная «порция» вычислений обрабатывается на том же потоке, что и предыдущая, то реализуется первая схе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чередная «порция» вычислений обрабатывается на потоке отличном от потока-создателя «порции», то реализуется вторая схе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AD09-D64F-489F-A3BA-BC2428E2B7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работ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_reduce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Пример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parallel_redu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 же как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parallel_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щепляет (в данном примере) одномерные итерационные пространства до тех пор пока их размеры больше, ч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rain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е в работе функ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parallel_redu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оит в том, что она не создает копии исходного функтора при каждом расщеплении (кроме отдельного случ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5164-3E96-41D6-AF1F-84383F8E8A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9" name="Rectangle 1"/>
          <p:cNvSpPr/>
          <p:nvPr/>
        </p:nvSpPr>
        <p:spPr>
          <a:xfrm>
            <a:off x="1004040" y="1289520"/>
            <a:ext cx="691668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reduce(blocked_range&lt;int&gt;(5, 14, 2), body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работ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_reduce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Пример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очередная «порция» вычислений обрабатывается на том же потоке, что и предыду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нной схеме требуется и существует только один экземпляр функ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ая схема реализуется всегда при вычислении в один по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42C5-F83C-45B8-B53F-7B6DEBE292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5" name="Rectangle 1"/>
          <p:cNvSpPr/>
          <p:nvPr/>
        </p:nvSpPr>
        <p:spPr>
          <a:xfrm>
            <a:off x="1004040" y="1289520"/>
            <a:ext cx="691668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reduce(blocked_range&lt;int&gt;(5, 14, 2), body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6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работ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_reduce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Пример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на очередной итерации потоком была создана «порция» вычислений размером [9, 14) и этот же поток обрабатывает эту «порци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4B78-1AD3-4F91-B203-48F709E10E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2" name="Rectangle 1"/>
          <p:cNvSpPr/>
          <p:nvPr/>
        </p:nvSpPr>
        <p:spPr>
          <a:xfrm>
            <a:off x="1004040" y="1289520"/>
            <a:ext cx="691668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reduce(blocked_range&lt;int&gt;(5, 14, 2), body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3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4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945" name="Object 1"/>
          <p:cNvGraphicFramePr/>
          <p:nvPr/>
        </p:nvGraphicFramePr>
        <p:xfrm>
          <a:off x="2309760" y="2571840"/>
          <a:ext cx="4929120" cy="36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9760" y="2571840"/>
                    <a:ext cx="4929120" cy="36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работ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_reduce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Приме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очередная «порция» вычислений выполняется на потоке отличном от потока-создателя «порц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сходит создание нового функтора с помощью конструктора расщеп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07C7-DE9D-456C-AA97-571E70627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2" name="Rectangle 1"/>
          <p:cNvSpPr/>
          <p:nvPr/>
        </p:nvSpPr>
        <p:spPr>
          <a:xfrm>
            <a:off x="1004040" y="1289520"/>
            <a:ext cx="691668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reduce(blocked_range&lt;int&gt;(5, 14, 2), body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3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4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 параллельной обработки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5595480" y="1197000"/>
            <a:ext cx="38149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на очередной итерации потоком 0 были созданы две «порции» вычислений [5, 9) и [9, 1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ок 0 продолжил выполнять вычисления с «порцией» [5, 9), а поток 1 взял на выполнение «порцию» [9, 1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EA28-1824-4896-99F8-EE3BAAB60B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961" name="Object 3"/>
          <p:cNvGraphicFramePr/>
          <p:nvPr/>
        </p:nvGraphicFramePr>
        <p:xfrm>
          <a:off x="309600" y="1857240"/>
          <a:ext cx="528624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857240"/>
                    <a:ext cx="528624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зможности библиотек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 содерж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обезопасные контейнеры (аналогичны контейнерам STL, за исключением того, что накладных расходов при работе с ними в параллельных приложениях меньше, чем при использовании стандартных контейнеров ST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ы выделения динамической памяти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лока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итивы синхро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0479-F22C-44A1-BC70-2CA4219E2F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 параллельной обработк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5595480" y="1197000"/>
            <a:ext cx="38149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избежание возможных гонок данных поток 1 не использует ссылку на существующий функтор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ody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создает новый функтор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ody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помощью конструктора расщепления и продолжает работать с ним, подставляя ссылку на него в «порцию» вместо исходного функтор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ody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ее все происходит так же как в первой схе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FD0D-C862-41F0-9FE3-76675BAA6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8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969" name="Object 2"/>
          <p:cNvGraphicFramePr/>
          <p:nvPr/>
        </p:nvGraphicFramePr>
        <p:xfrm>
          <a:off x="309600" y="1857240"/>
          <a:ext cx="528624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857240"/>
                    <a:ext cx="528624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работ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_reduce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Расщепление функтор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тор расщепления функтора реально никакого «разделения» функтора или его полей на части не производ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ольшинстве случаев его работа совпадает с работой конструктора коп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конструктора расщепления в данном случае лишь дает возможность реализовать разработчикам функтора более сложное поведение в момент «переноса» функтора на другой по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7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7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CC5D-DA60-4D26-A32A-E394566DC7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работ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_reduce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Редукц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е вычисления происходили в один поток, то операция редукции не требуется, т.к. функтор существует в одном экземпляре, и он один выполнил все вы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некоторый момент очередная «порция» вычислений была создана одним потоком, а сами вычисления производились другим, то это приводит к созданию нового функтора. Это значит, что необходимо выполнить редукцию нового функтора на стар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79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80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EDC0-1377-4BE9-B98D-6834628CB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1" name="Object 3"/>
          <p:cNvGraphicFramePr/>
          <p:nvPr/>
        </p:nvGraphicFramePr>
        <p:xfrm>
          <a:off x="452520" y="1647720"/>
          <a:ext cx="52959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47720"/>
                    <a:ext cx="52959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 параллельной обработки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8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8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D97D-6917-4949-95AC-FA8F8BD973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87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88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3"/>
          <a:stretch/>
        </p:blipFill>
        <p:spPr>
          <a:xfrm>
            <a:off x="495000" y="1197000"/>
            <a:ext cx="8915400" cy="4968720"/>
          </a:xfrm>
          <a:prstGeom prst="rect">
            <a:avLst/>
          </a:prstGeom>
          <a:ln w="0">
            <a:noFill/>
          </a:ln>
        </p:spPr>
      </p:pic>
      <p:sp>
        <p:nvSpPr>
          <p:cNvPr id="990" name="Содержимое 2"/>
          <p:cNvSpPr/>
          <p:nvPr/>
        </p:nvSpPr>
        <p:spPr>
          <a:xfrm>
            <a:off x="5595840" y="1197000"/>
            <a:ext cx="3814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вычислений является не детерминированным (какой поток выполнит конкретную часть вычислений определяется только на этапе выполнения). 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495000" y="1197000"/>
            <a:ext cx="8915400" cy="49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2" name="Object 3"/>
          <p:cNvGraphicFramePr/>
          <p:nvPr/>
        </p:nvGraphicFramePr>
        <p:xfrm>
          <a:off x="595440" y="1509840"/>
          <a:ext cx="5343480" cy="399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5440" y="1509840"/>
                    <a:ext cx="534348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 параллельной обработки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9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9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61DD-5E15-4F11-85B3-774BA78E23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98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99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0" name="Содержимое 2"/>
          <p:cNvSpPr/>
          <p:nvPr/>
        </p:nvSpPr>
        <p:spPr>
          <a:xfrm>
            <a:off x="5595840" y="1197000"/>
            <a:ext cx="3814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х узлах дерева, где происходило расщепление функтора, по завершении вычислений будут выполнены операции редукции.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использования функции tbb: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_reduc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52344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функтора функ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parallel_redu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решения задачи скалярного умножения векто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ая версия скалярного умножения векто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3357-312A-491A-B611-9A5BA54AFD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6" name="Rectangle 1"/>
          <p:cNvSpPr/>
          <p:nvPr/>
        </p:nvSpPr>
        <p:spPr>
          <a:xfrm>
            <a:off x="1037160" y="2895120"/>
            <a:ext cx="8212320" cy="2167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Скалярное умножение векторов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VectorsMultiplication(double *v1, double *v2, int size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result = 0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nt i = 0; i &lt; size; i++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ult += v1[i] * v2[i]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sul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использования функции tbb: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_reduc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Реализация функтора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863A-48A7-4705-AA2E-2EE7EE1B16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2" name="Rectangle 1"/>
          <p:cNvSpPr/>
          <p:nvPr/>
        </p:nvSpPr>
        <p:spPr>
          <a:xfrm>
            <a:off x="965880" y="1337400"/>
            <a:ext cx="8212320" cy="4500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ScalarMultiplicator //Функтор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: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 double *a, *b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c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: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licit ScalarMultiplicator(double *ta, double *tb):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ta), b(tb), c(0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}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larMultiplicator(const ScalarMultiplicator&amp; m, split):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m.a), b(m.b), c(0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… 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использования функции tbb: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_reduc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Реализация функтор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495000" y="1197000"/>
            <a:ext cx="8915400" cy="4968720"/>
          </a:xfrm>
          <a:prstGeom prst="rect">
            <a:avLst/>
          </a:prstGeom>
          <a:ln w="0">
            <a:noFill/>
          </a:ln>
        </p:spPr>
      </p:pic>
      <p:sp>
        <p:nvSpPr>
          <p:cNvPr id="101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1C7F-9DE5-462D-A029-CDB8DDE76C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8" name="Rectangle 1"/>
          <p:cNvSpPr/>
          <p:nvPr/>
        </p:nvSpPr>
        <p:spPr>
          <a:xfrm>
            <a:off x="944640" y="1305000"/>
            <a:ext cx="8181720" cy="49021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ScalarMultiplicator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Функтор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…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: 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operator()(const blocked_range&lt;int&gt;&amp; r)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begin = r.begin(),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= r.end();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+= VectorsMultiplication(&amp;(a[begin]), &amp;(b[begin]), end - begin);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join(const ScalarMultiplicator&amp; multiplicator)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+= multiplicator.c;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Result()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c;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 </a:t>
            </a:r>
            <a:endParaRPr b="0" lang="en-US" sz="15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использования функции tbb: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_redu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parallel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задаче скалярного умножения векторов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змер векторов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сходные векто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ACA5-2604-4670-9029-ED48208663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4" name="Rectangle 1"/>
          <p:cNvSpPr/>
          <p:nvPr/>
        </p:nvSpPr>
        <p:spPr>
          <a:xfrm>
            <a:off x="1179000" y="2459160"/>
            <a:ext cx="8082720" cy="61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larMultiplicator s(a, b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reduce(blocked_range&lt;int&gt;(0, size, grainSize),  s);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5" name="Rectangle 1"/>
          <p:cNvSpPr/>
          <p:nvPr/>
        </p:nvSpPr>
        <p:spPr>
          <a:xfrm>
            <a:off x="1050480" y="3842640"/>
            <a:ext cx="8082720" cy="13899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agma omp parallel for schedule(dynamic, grainsize) \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uce(+: c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nt i = 0; i &lt; size / grainsize; i++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+= VectorsMultiplication(&amp;(a[i * grainsize]), 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amp;(b[i * grainsize]), grainsize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9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925E-AC03-47FA-B4BB-51C38FE639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1029" name="Прямоугольник 6" descr=""/>
          <p:cNvPicPr/>
          <p:nvPr/>
        </p:nvPicPr>
        <p:blipFill>
          <a:blip r:embed="rId1"/>
          <a:stretch/>
        </p:blipFill>
        <p:spPr>
          <a:xfrm>
            <a:off x="804960" y="2395440"/>
            <a:ext cx="82231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исание библиотеки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платформенная библиоте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ребует поддержки со стороны компилятора (для сборки приложения необходима установленная верс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для запуска под операционной системой семейства Microsoft Windows достаточно иметь динамическую библиотек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.dl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5E0A-62C2-407C-A54A-D6F31E57FB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араллельная сортировк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т шаблонную функци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parallel_sor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едназначенную для сортировки последова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parallel_sor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выполнять параллельную сортировку встроенных типов языка C++ и всех классов, у которых реализованы метод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wa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perator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perator(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полняет сравнение двух элемен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wap(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полняет перестановку дву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3117-CEAC-47FA-A599-80973CE4E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араллельная сортировка. Приме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параллельной с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181A-26CE-4E92-9158-6CEBECC540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0" name="Rectangle 1"/>
          <p:cNvSpPr/>
          <p:nvPr/>
        </p:nvSpPr>
        <p:spPr>
          <a:xfrm>
            <a:off x="1001520" y="1694520"/>
            <a:ext cx="6528240" cy="4500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nclude "tbb/parallel_sort.h"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nclude &lt;math.h&gt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namespace tbb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 int N = 100000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t a[N]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t b[N]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SortExample(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 int i = 0; i &lt; N; i++ 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 = sin((double)i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[i] = cos((double)i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sort(a, a + N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sort(b, b + N, std::greater&lt;float&gt;())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параллеливание циклов с условие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т шаблонный клас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 помощью которого можно выполнить параллельную обработку элементов, размещенных в некотором «входном» потоке да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могут быть добавлены в поток данных во время вычис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659F-312D-4482-8D6E-C22F210318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обрабатываемых элементо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обрабатываемых элементов должен содержать следующие обязательные мет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тор по умолчани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typ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тор копирова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_type(const element_type&amp;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труктор 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type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9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50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C244-4682-44DC-9A78-2A37F24C47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ток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52344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 данных – класс, который должен содержать метод, возвращающий очередной элемент. Данный метод будет выполняться только одним потоком в каждый момент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54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55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B972-3D47-40F7-A651-B4E6BD3B9D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56" name="Rectangle 1"/>
          <p:cNvSpPr/>
          <p:nvPr/>
        </p:nvSpPr>
        <p:spPr>
          <a:xfrm>
            <a:off x="1002960" y="2789640"/>
            <a:ext cx="678744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 S::pop_if_present( B::arguelement_type&amp; item 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обрабатывающий элемент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, который будет заниматься обработкой элементов должен содержать метод обработки очередного элемен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метод может вызываться несколькими потоками одновременно и выполняться параллельно для разных элементов из потока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обрабатывающий элементы должен содержать следующее переопределение т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6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6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84AF-8048-441C-8E1A-1D31483DD7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62" name="Rectangle 1"/>
          <p:cNvSpPr/>
          <p:nvPr/>
        </p:nvSpPr>
        <p:spPr>
          <a:xfrm>
            <a:off x="994320" y="2429280"/>
            <a:ext cx="562140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::operator()(B::element_type&amp; item) const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63" name="Rectangle 1"/>
          <p:cNvSpPr/>
          <p:nvPr/>
        </p:nvSpPr>
        <p:spPr>
          <a:xfrm>
            <a:off x="996840" y="4861440"/>
            <a:ext cx="471456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ypedef element_type argument_type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вейерные вычислен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 TBB содержит клас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pipelin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 помощью которого можно выполнять конвейерные вы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таких вычислений характерно выполнения нескольких стадий вычислений над одним и тем же элемен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хотя бы на одной из стадий работа над разными элементами может быть выполнена параллельно, то с помощью данного класса можно организовать такие вы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6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6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3013-8057-49ED-B55C-B7C74ED0D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::pipelin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pipelin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полняет обработку элементов, заданных с помощью потока да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а осуществляется с помощью набора фильтров, которые необходимо применить к каждому элемен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ьтры могут быть последовательными и параллель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обавления фильтра в объект клас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pipelin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уется мет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dd_fil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уска вычислений используется мет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7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7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072D-4074-4E6F-BCFF-B6949CDF01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ильт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фильт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l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абстрактным, должен быть унаследован всеми фильтрами, реализованными пользовате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фильтра должен содержать следующие мет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ool filter::is_serial() con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озвращает тип фильтр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следовательны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араллель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void* filter::operator()(void* ite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обработки элемен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жен вернуть указатель на элемент, который будет обрабатываться следующим фильтром. Фильтр, использующийся в объекте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pipelin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ен вернуть NULL, если больше нет элементов для обрабо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irtual filter::~filter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еструктор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7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7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41DF-FE94-4A05-A555-58ED9B44E6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9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80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81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8F1E-0A09-4D3C-BFA9-9CCA4FAF85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1082" name="Прямоугольник 6" descr=""/>
          <p:cNvPicPr/>
          <p:nvPr/>
        </p:nvPicPr>
        <p:blipFill>
          <a:blip r:embed="rId1"/>
          <a:stretch/>
        </p:blipFill>
        <p:spPr>
          <a:xfrm>
            <a:off x="804960" y="2395440"/>
            <a:ext cx="82231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5502-2B35-4CFA-83AD-C23EDF7F51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598" name="Прямоугольник 6" descr=""/>
          <p:cNvPicPr/>
          <p:nvPr/>
        </p:nvPicPr>
        <p:blipFill>
          <a:blip r:embed="rId1"/>
          <a:stretch/>
        </p:blipFill>
        <p:spPr>
          <a:xfrm>
            <a:off x="774720" y="2395440"/>
            <a:ext cx="828360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Ядро библиотек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набора высокоуровневых алгоритмов, которые предназначены для упрощения разработки параллельных программ, библиоте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яет возможность писать параллельные программы на низком уровне – уровне «логических задач», работа с которыми, тем не менее, более удобна, чем напрямую с пото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8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8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06A8-EB20-4E11-9C88-2AB3A7CBD2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ая задача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огическая 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иблиотеке TBB представлена в виде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tas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т класс является базовым при реализации задач, т.е. должен быть унаследован всеми пользовательскими логическими задач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льнейшем под логической задачей будем понимать любой класс, который является потомком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tas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9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9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8FC2-CE9A-4AEB-9A83-0DF116DEE5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ая задач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tas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держит виртуальный мет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ask::execu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котором выполняются вы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методе производятся необходимые вычисления, после чего возвращается указатель на следующую задачу, которую необходимо выполнить. Если возвращ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из пула готовых к выполнению задач выбирается н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96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97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34D6-D049-4B25-878A-D844360E24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98" name="Rectangle 1"/>
          <p:cNvSpPr/>
          <p:nvPr/>
        </p:nvSpPr>
        <p:spPr>
          <a:xfrm>
            <a:off x="958320" y="2072160"/>
            <a:ext cx="2901240" cy="353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* task::execute(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устая задач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 TBB содержит специально реализованную «пустую» задачу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bb::empty_tas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которая часто оказывается полез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ask::execu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й задачи не выполняет никаких вычис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02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03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005D-0B97-4A02-B192-6FF2B67838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04" name="Rectangle 1"/>
          <p:cNvSpPr/>
          <p:nvPr/>
        </p:nvSpPr>
        <p:spPr>
          <a:xfrm>
            <a:off x="942120" y="3225600"/>
            <a:ext cx="3937320" cy="1908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ty_task: public task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* execute()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NULL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работ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поток, созданный библиотекой, имеет свое множество (пул) готовых к выполнению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ножество представляет собой динамический массив сп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08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09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6C62-C022-4939-8A6E-768F4D3BE2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работы. Пример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в библиотеке создано два по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в вычислительный алгоритм создаёт три задачи, в начальный момент времени они расположены на 0-ом потоке, пул задач пото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пу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13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14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FD1A-1698-4802-B5D9-D2C8A78674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1115" name="Picture 3" descr=""/>
          <p:cNvPicPr/>
          <p:nvPr/>
        </p:nvPicPr>
        <p:blipFill>
          <a:blip r:embed="rId1"/>
          <a:stretch/>
        </p:blipFill>
        <p:spPr>
          <a:xfrm>
            <a:off x="3067200" y="3338640"/>
            <a:ext cx="37717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работы. Пример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ет выполнять одну из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пул задач пото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, то он «изымает» одну из задач 0-го потока на выпол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19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20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3E65-169D-4842-BAAE-A82EEBE6C7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1121" name="Picture 2" descr=""/>
          <p:cNvPicPr/>
          <p:nvPr/>
        </p:nvPicPr>
        <p:blipFill>
          <a:blip r:embed="rId1"/>
          <a:stretch/>
        </p:blipFill>
        <p:spPr>
          <a:xfrm>
            <a:off x="3067200" y="3338640"/>
            <a:ext cx="37717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работы. Пример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из задач порождает 2-3 подзадачи (в данном пример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завершения текущей задачи происходит выполнение одной из задач на самом высоком (по номеру) уровне в пуле по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и выполняют задачи 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25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26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BDD9-9764-4E0B-8F8D-E5C6FA8A23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1127" name="Picture 2" descr=""/>
          <p:cNvPicPr/>
          <p:nvPr/>
        </p:nvPicPr>
        <p:blipFill>
          <a:blip r:embed="rId1"/>
          <a:stretch/>
        </p:blipFill>
        <p:spPr>
          <a:xfrm>
            <a:off x="3095640" y="4000680"/>
            <a:ext cx="43815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работы. Приме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к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нулевого уровн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ждает три подзадачи, которые размещаются на уровне 1, выполнение задача на нулевом уровне заверш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яться одна из задач 1-го уровня, она порождает две подзадачи 2-го уровня, выполнение задачи на 1-ом уровне заверш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яются одна из задач 2-го уровня, подзадачи не создаются, выполнение задачи на 2-ом уровне заверш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яется оставшаяся задача на 2-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31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32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F771-AAFA-4518-9FDA-55FC42080C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1133" name="Picture 2" descr=""/>
          <p:cNvPicPr/>
          <p:nvPr/>
        </p:nvPicPr>
        <p:blipFill>
          <a:blip r:embed="rId1"/>
          <a:stretch/>
        </p:blipFill>
        <p:spPr>
          <a:xfrm>
            <a:off x="3095640" y="4000680"/>
            <a:ext cx="43815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трибуты задач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ая задача имеет следующий набор связанных с ней атрибу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ток, которому принадлежит зада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вен либ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либо указателю на другую задачу, у которой пол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fcou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удет уменьшено на единицу после завершения текущей задачи. Для получения значения этого атрибута предназначен метод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ept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лубина задачи в дереве задач. Получить значение этого атрибута можно с помощью мет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ept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установить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et_dept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fcou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число задач, у которых текущая задача указана в пол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лучить значение по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fcou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с помощью мет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f_cou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установить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et_ref_cou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десь и далее обозначения parent, depth используются и как имена полей и как имена методов, с помощью которых можно получить их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Дата 3"/>
          <p:cNvSpPr/>
          <p:nvPr/>
        </p:nvSpPr>
        <p:spPr>
          <a:xfrm>
            <a:off x="88272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37" name="Нижний колонтитул 4"/>
          <p:cNvSpPr/>
          <p:nvPr/>
        </p:nvSpPr>
        <p:spPr>
          <a:xfrm>
            <a:off x="300816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струменты параллельного программирования для систем с общей памятью.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Краткое описание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38" name="Номер слайда 5"/>
          <p:cNvSpPr/>
          <p:nvPr/>
        </p:nvSpPr>
        <p:spPr>
          <a:xfrm>
            <a:off x="884412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213A-FD5C-4880-9CD0-B1DF32DDB3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0:27:56Z</dcterms:created>
  <dc:creator>Гергель В.П.</dc:creator>
  <dc:description>Версия 1.2 от 30.12.2005</dc:description>
  <dc:language>en-US</dc:language>
  <cp:lastModifiedBy>Alexey A. Sidnev</cp:lastModifiedBy>
  <dcterms:modified xsi:type="dcterms:W3CDTF">2009-03-23T14:54:15Z</dcterms:modified>
  <cp:revision>1355</cp:revision>
  <dc:subject/>
  <dc:title>Параллельные методы сортировки</dc:title>
</cp:coreProperties>
</file>